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E0FD-1718-4276-BEE3-5B48FD12E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239C-EA9A-4156-90C2-C6F33B68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3D3A-4D3A-4454-9791-7237B204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9B9E-8D67-423B-A386-04E0F474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583E-38B2-4632-8B8A-7051F5B2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2443-9B7D-4D8B-A866-26ADDCFE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5585-8FB4-450B-8433-9EE72887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3279-406E-4CE7-9B07-69D9C1BE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F416-DEF0-4554-ADDB-7A9E725A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8D57-16C3-4749-B612-88A6BBB9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92C9-A849-408A-B859-C2BA2B51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AD09-515C-45A8-BAA8-8FC0DB8E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4021-CECA-4B6E-8B05-F94460A81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wmf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wmf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1.wmf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1.wmf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wmf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wmf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1.wmf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1.wmf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image" Target="../media/image11.wmf"/><Relationship Id="rId23" Type="http://schemas.openxmlformats.org/officeDocument/2006/relationships/image" Target="../media/image2.png"/><Relationship Id="rId2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942320" y="189000"/>
            <a:ext cx="987480" cy="1152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55640" y="1557360"/>
            <a:ext cx="7920000" cy="32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33cc"/>
                </a:solidFill>
                <a:latin typeface="Arial"/>
              </a:rPr>
              <a:t>Отчет об исполнении бюджета МО «Фировский район»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33cc"/>
                </a:solidFill>
                <a:latin typeface="Arial"/>
              </a:rPr>
              <a:t>за 2011 год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Изменение кредиторской задолженности по бюджетным кредитам (тыс. 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646360"/>
            <a:ext cx="8435880" cy="4311720"/>
          </a:xfrm>
          <a:custGeom>
            <a:avLst/>
            <a:gdLst/>
            <a:ahLst/>
            <a:rect l="l" t="t" r="r" b="b"/>
            <a:pathLst>
              <a:path w="5218" h="2716">
                <a:moveTo>
                  <a:pt x="0" y="2387"/>
                </a:moveTo>
                <a:cubicBezTo>
                  <a:pt x="0" y="2527"/>
                  <a:pt x="0" y="2668"/>
                  <a:pt x="0" y="2668"/>
                </a:cubicBezTo>
                <a:cubicBezTo>
                  <a:pt x="2256" y="2716"/>
                  <a:pt x="4539" y="1996"/>
                  <a:pt x="5218" y="220"/>
                </a:cubicBezTo>
                <a:lnTo>
                  <a:pt x="4011" y="0"/>
                </a:lnTo>
                <a:cubicBezTo>
                  <a:pt x="3333" y="2003"/>
                  <a:pt x="638" y="2311"/>
                  <a:pt x="0" y="2387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780000" y="4797360"/>
            <a:ext cx="1294920" cy="1223280"/>
            <a:chOff x="3780000" y="4797360"/>
            <a:chExt cx="1294920" cy="1223280"/>
          </a:xfrm>
        </p:grpSpPr>
        <p:grpSp>
          <p:nvGrpSpPr>
            <p:cNvPr id="139" name=""/>
            <p:cNvGrpSpPr/>
            <p:nvPr/>
          </p:nvGrpSpPr>
          <p:grpSpPr>
            <a:xfrm>
              <a:off x="3780000" y="4797360"/>
              <a:ext cx="1294920" cy="1223280"/>
              <a:chOff x="3780000" y="4797360"/>
              <a:chExt cx="1294920" cy="1223280"/>
            </a:xfrm>
          </p:grpSpPr>
          <p:pic>
            <p:nvPicPr>
              <p:cNvPr id="14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902760" y="5756400"/>
                <a:ext cx="1066320" cy="26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780000" y="4797360"/>
                <a:ext cx="1294920" cy="112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3780000" y="4797360"/>
                <a:ext cx="1285920" cy="1131480"/>
              </a:xfrm>
              <a:prstGeom prst="ellipse">
                <a:avLst/>
              </a:prstGeom>
              <a:gradFill rotWithShape="0">
                <a:gsLst>
                  <a:gs pos="0">
                    <a:srgbClr val="333399">
                      <a:alpha val="55294"/>
                    </a:srgbClr>
                  </a:gs>
                  <a:gs pos="50000">
                    <a:srgbClr val="171746">
                      <a:alpha val="90196"/>
                    </a:srgbClr>
                  </a:gs>
                  <a:gs pos="100000">
                    <a:srgbClr val="333399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3" name="" descr=""/>
            <p:cNvPicPr/>
            <p:nvPr/>
          </p:nvPicPr>
          <p:blipFill>
            <a:blip r:embed="rId4"/>
            <a:stretch/>
          </p:blipFill>
          <p:spPr>
            <a:xfrm>
              <a:off x="3907800" y="4808880"/>
              <a:ext cx="1023840" cy="39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5796000" y="2205000"/>
            <a:ext cx="2278080" cy="2361240"/>
            <a:chOff x="5796000" y="2205000"/>
            <a:chExt cx="2278080" cy="2361240"/>
          </a:xfrm>
        </p:grpSpPr>
        <p:grpSp>
          <p:nvGrpSpPr>
            <p:cNvPr id="145" name=""/>
            <p:cNvGrpSpPr/>
            <p:nvPr/>
          </p:nvGrpSpPr>
          <p:grpSpPr>
            <a:xfrm>
              <a:off x="5796000" y="2205000"/>
              <a:ext cx="2278080" cy="2361240"/>
              <a:chOff x="5796000" y="2205000"/>
              <a:chExt cx="2278080" cy="2361240"/>
            </a:xfrm>
          </p:grpSpPr>
          <p:pic>
            <p:nvPicPr>
              <p:cNvPr id="14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012000" y="4056120"/>
                <a:ext cx="1875960" cy="51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796000" y="2205000"/>
                <a:ext cx="2278080" cy="217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5796000" y="2205000"/>
                <a:ext cx="2262600" cy="2183400"/>
              </a:xfrm>
              <a:prstGeom prst="ellipse">
                <a:avLst/>
              </a:prstGeom>
              <a:gradFill rotWithShape="0">
                <a:gsLst>
                  <a:gs pos="0">
                    <a:srgbClr val="009999">
                      <a:alpha val="55294"/>
                    </a:srgbClr>
                  </a:gs>
                  <a:gs pos="50000">
                    <a:srgbClr val="004646">
                      <a:alpha val="90196"/>
                    </a:srgbClr>
                  </a:gs>
                  <a:gs pos="100000">
                    <a:srgbClr val="009999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9" name="" descr=""/>
            <p:cNvPicPr/>
            <p:nvPr/>
          </p:nvPicPr>
          <p:blipFill>
            <a:blip r:embed="rId7"/>
            <a:stretch/>
          </p:blipFill>
          <p:spPr>
            <a:xfrm>
              <a:off x="6021360" y="2227680"/>
              <a:ext cx="1801800" cy="77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"/>
          <p:cNvSpPr/>
          <p:nvPr/>
        </p:nvSpPr>
        <p:spPr>
          <a:xfrm flipV="1" rot="2284800">
            <a:off x="5555880" y="4428360"/>
            <a:ext cx="399960" cy="936360"/>
          </a:xfrm>
          <a:prstGeom prst="triangle">
            <a:avLst>
              <a:gd name="adj" fmla="val 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3708360" y="5084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5300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5940360" y="2997360"/>
            <a:ext cx="18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25600,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87640" y="278136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 01.01.2011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71640" y="494172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 01.01.2012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8"/>
          <a:stretch/>
        </p:blipFill>
        <p:spPr>
          <a:xfrm>
            <a:off x="7885080" y="115920"/>
            <a:ext cx="98748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7942320" y="189000"/>
            <a:ext cx="987480" cy="1152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181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Исполнение расходов бюджета  МО «Фировский район» по отраслям за  201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5899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го: пла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ак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%исполн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клонение(+;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42683,6        226278,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93,2%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-16405,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ыс. р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0920" y="836640"/>
          <a:ext cx="9144000" cy="602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836640"/>
                    <a:ext cx="914400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7561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Структура расходов бюджета МО «Фировский район» по разделам функциональной </a:t>
            </a:r>
            <a:br>
              <a:rPr sz="2000"/>
            </a:b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классификации расходов за 2011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50920" y="1197000"/>
          <a:ext cx="8723160" cy="532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197000"/>
                    <a:ext cx="872316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7885080" y="115920"/>
            <a:ext cx="98748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137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Структура расходов бюджета МО «Фировский район» по классификации операций сектора государственного управления за 2011 год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50840" y="1255680"/>
          <a:ext cx="8854920" cy="516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0840" y="1255680"/>
                    <a:ext cx="885492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885080" y="115920"/>
            <a:ext cx="98748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Раздел 0100 «Общегосударственные вопрос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76000" y="981000"/>
            <a:ext cx="6769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сего 19949 тыс. рублей, в том чис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116000" y="4292640"/>
            <a:ext cx="2233080" cy="1152360"/>
            <a:chOff x="1116000" y="4292640"/>
            <a:chExt cx="2233080" cy="1152360"/>
          </a:xfrm>
        </p:grpSpPr>
        <p:sp>
          <p:nvSpPr>
            <p:cNvPr id="176" name=""/>
            <p:cNvSpPr/>
            <p:nvPr/>
          </p:nvSpPr>
          <p:spPr>
            <a:xfrm>
              <a:off x="1116000" y="5165640"/>
              <a:ext cx="2229480" cy="27108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19600" y="4292640"/>
              <a:ext cx="2229480" cy="1152360"/>
            </a:xfrm>
            <a:prstGeom prst="can">
              <a:avLst>
                <a:gd name="adj" fmla="val 25000"/>
              </a:avLst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066680" y="2637000"/>
            <a:ext cx="2280960" cy="1512720"/>
            <a:chOff x="1066680" y="2637000"/>
            <a:chExt cx="2280960" cy="1512720"/>
          </a:xfrm>
        </p:grpSpPr>
        <p:sp>
          <p:nvSpPr>
            <p:cNvPr id="179" name=""/>
            <p:cNvSpPr/>
            <p:nvPr/>
          </p:nvSpPr>
          <p:spPr>
            <a:xfrm>
              <a:off x="1066680" y="3782880"/>
              <a:ext cx="2277000" cy="3556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70640" y="2637000"/>
              <a:ext cx="2277000" cy="1512720"/>
            </a:xfrm>
            <a:prstGeom prst="can">
              <a:avLst>
                <a:gd name="adj" fmla="val 25000"/>
              </a:avLst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066680" y="1828800"/>
            <a:ext cx="2295360" cy="592200"/>
            <a:chOff x="1066680" y="1828800"/>
            <a:chExt cx="2295360" cy="592200"/>
          </a:xfrm>
        </p:grpSpPr>
        <p:sp>
          <p:nvSpPr>
            <p:cNvPr id="182" name=""/>
            <p:cNvSpPr/>
            <p:nvPr/>
          </p:nvSpPr>
          <p:spPr>
            <a:xfrm>
              <a:off x="1066680" y="2277360"/>
              <a:ext cx="2291400" cy="1393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70640" y="1828800"/>
              <a:ext cx="2291400" cy="592200"/>
            </a:xfrm>
            <a:prstGeom prst="can">
              <a:avLst>
                <a:gd name="adj" fmla="val 25000"/>
              </a:avLst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492360" y="1700280"/>
            <a:ext cx="5040360" cy="792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58920" y="1916280"/>
            <a:ext cx="21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1280" y="1628640"/>
            <a:ext cx="4464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Функционирование высшего должностного лица органа местного самоуправления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1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16000" y="3141720"/>
            <a:ext cx="21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12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16000" y="4653000"/>
            <a:ext cx="21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6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2637000"/>
            <a:ext cx="5112000" cy="143964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24360" y="3068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Функционирование местных администраций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1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2360" y="4221000"/>
            <a:ext cx="5112000" cy="1224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51280" y="4365720"/>
            <a:ext cx="45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беспечение деятельности финансовых органов» 0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48000" y="1916280"/>
            <a:ext cx="533520" cy="380880"/>
          </a:xfrm>
          <a:prstGeom prst="rightArrow">
            <a:avLst>
              <a:gd name="adj1" fmla="val 50000"/>
              <a:gd name="adj2" fmla="val 583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48000" y="3213000"/>
            <a:ext cx="533520" cy="381240"/>
          </a:xfrm>
          <a:prstGeom prst="rightArrow">
            <a:avLst>
              <a:gd name="adj1" fmla="val 50000"/>
              <a:gd name="adj2" fmla="val 58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0" y="4724280"/>
            <a:ext cx="533520" cy="381240"/>
          </a:xfrm>
          <a:prstGeom prst="rightArrow">
            <a:avLst>
              <a:gd name="adj1" fmla="val 50000"/>
              <a:gd name="adj2" fmla="val 58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116000" y="5589720"/>
            <a:ext cx="2233080" cy="936360"/>
            <a:chOff x="1116000" y="5589720"/>
            <a:chExt cx="2233080" cy="936360"/>
          </a:xfrm>
        </p:grpSpPr>
        <p:sp>
          <p:nvSpPr>
            <p:cNvPr id="197" name=""/>
            <p:cNvSpPr/>
            <p:nvPr/>
          </p:nvSpPr>
          <p:spPr>
            <a:xfrm>
              <a:off x="1116000" y="6299280"/>
              <a:ext cx="2229480" cy="220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19600" y="5589720"/>
              <a:ext cx="2229480" cy="936360"/>
            </a:xfrm>
            <a:prstGeom prst="can">
              <a:avLst>
                <a:gd name="adj" fmla="val 25000"/>
              </a:avLst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187280" y="5877000"/>
            <a:ext cx="21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1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19640" y="5589720"/>
            <a:ext cx="4968720" cy="9349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51280" y="57340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Другие общегосударственные вопросы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1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48000" y="5877000"/>
            <a:ext cx="533520" cy="380880"/>
          </a:xfrm>
          <a:prstGeom prst="rightArrow">
            <a:avLst>
              <a:gd name="adj1" fmla="val 42500"/>
              <a:gd name="adj2" fmla="val 541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7885080" y="115920"/>
            <a:ext cx="98748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74991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Раздел 0300 «Национальная безопасность и правоохранительная деятельно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76000" y="1125360"/>
            <a:ext cx="676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сего 879 тыс. рублей, в том чис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116000" y="4221000"/>
            <a:ext cx="2233080" cy="1079640"/>
            <a:chOff x="1116000" y="4221000"/>
            <a:chExt cx="2233080" cy="1079640"/>
          </a:xfrm>
        </p:grpSpPr>
        <p:sp>
          <p:nvSpPr>
            <p:cNvPr id="207" name=""/>
            <p:cNvSpPr/>
            <p:nvPr/>
          </p:nvSpPr>
          <p:spPr>
            <a:xfrm>
              <a:off x="1116000" y="5038920"/>
              <a:ext cx="2229480" cy="25380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19600" y="4221000"/>
              <a:ext cx="2229480" cy="1079640"/>
            </a:xfrm>
            <a:prstGeom prst="can">
              <a:avLst>
                <a:gd name="adj" fmla="val 25000"/>
              </a:avLst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066680" y="2637000"/>
            <a:ext cx="2280960" cy="1512720"/>
            <a:chOff x="1066680" y="2637000"/>
            <a:chExt cx="2280960" cy="1512720"/>
          </a:xfrm>
        </p:grpSpPr>
        <p:sp>
          <p:nvSpPr>
            <p:cNvPr id="210" name=""/>
            <p:cNvSpPr/>
            <p:nvPr/>
          </p:nvSpPr>
          <p:spPr>
            <a:xfrm>
              <a:off x="1066680" y="3782880"/>
              <a:ext cx="2277000" cy="3556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70640" y="2637000"/>
              <a:ext cx="2277000" cy="1512720"/>
            </a:xfrm>
            <a:prstGeom prst="can">
              <a:avLst>
                <a:gd name="adj" fmla="val 25000"/>
              </a:avLst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066680" y="1828800"/>
            <a:ext cx="2295360" cy="736560"/>
            <a:chOff x="1066680" y="1828800"/>
            <a:chExt cx="2295360" cy="736560"/>
          </a:xfrm>
        </p:grpSpPr>
        <p:sp>
          <p:nvSpPr>
            <p:cNvPr id="213" name=""/>
            <p:cNvSpPr/>
            <p:nvPr/>
          </p:nvSpPr>
          <p:spPr>
            <a:xfrm>
              <a:off x="1066680" y="2386800"/>
              <a:ext cx="2291400" cy="17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70640" y="1828800"/>
              <a:ext cx="2291400" cy="736560"/>
            </a:xfrm>
            <a:prstGeom prst="can">
              <a:avLst>
                <a:gd name="adj" fmla="val 25000"/>
              </a:avLst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492360" y="1700280"/>
            <a:ext cx="5040360" cy="9367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1916280"/>
            <a:ext cx="21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1989000"/>
            <a:ext cx="44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Органы внутренних дел»  03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3068640"/>
            <a:ext cx="21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16000" y="4508640"/>
            <a:ext cx="21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92360" y="2781360"/>
            <a:ext cx="5112000" cy="129528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24360" y="2781360"/>
            <a:ext cx="4464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Защита населения и территории от последствий чрезвычайных ситуаций природного и техногенного характера, гражданская оборона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03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92360" y="4221000"/>
            <a:ext cx="5112000" cy="9367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51280" y="4365720"/>
            <a:ext cx="45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беспечение пожарной безопасности» 03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48000" y="1989000"/>
            <a:ext cx="533520" cy="381240"/>
          </a:xfrm>
          <a:prstGeom prst="rightArrow">
            <a:avLst>
              <a:gd name="adj1" fmla="val 50000"/>
              <a:gd name="adj2" fmla="val 58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348000" y="3213000"/>
            <a:ext cx="533520" cy="381240"/>
          </a:xfrm>
          <a:prstGeom prst="rightArrow">
            <a:avLst>
              <a:gd name="adj1" fmla="val 50000"/>
              <a:gd name="adj2" fmla="val 58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48000" y="4581360"/>
            <a:ext cx="533520" cy="381240"/>
          </a:xfrm>
          <a:prstGeom prst="rightArrow">
            <a:avLst>
              <a:gd name="adj1" fmla="val 50000"/>
              <a:gd name="adj2" fmla="val 58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116000" y="5516640"/>
            <a:ext cx="2233080" cy="936720"/>
            <a:chOff x="1116000" y="5516640"/>
            <a:chExt cx="2233080" cy="936720"/>
          </a:xfrm>
        </p:grpSpPr>
        <p:sp>
          <p:nvSpPr>
            <p:cNvPr id="228" name=""/>
            <p:cNvSpPr/>
            <p:nvPr/>
          </p:nvSpPr>
          <p:spPr>
            <a:xfrm>
              <a:off x="1116000" y="6226200"/>
              <a:ext cx="2229480" cy="220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19600" y="5516640"/>
              <a:ext cx="2229480" cy="936720"/>
            </a:xfrm>
            <a:prstGeom prst="can">
              <a:avLst>
                <a:gd name="adj" fmla="val 25000"/>
              </a:avLst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187280" y="5734080"/>
            <a:ext cx="21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19640" y="5589720"/>
            <a:ext cx="4968720" cy="9349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08360" y="5661000"/>
            <a:ext cx="446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Другие вопросы в области национальной безопасности и правоохранительной деятельности» 03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348000" y="5877000"/>
            <a:ext cx="533520" cy="380880"/>
          </a:xfrm>
          <a:prstGeom prst="rightArrow">
            <a:avLst>
              <a:gd name="adj1" fmla="val 42500"/>
              <a:gd name="adj2" fmla="val 541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7885080" y="115920"/>
            <a:ext cx="98748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427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Раздел 0400 «Национальная эконом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76000" y="981000"/>
            <a:ext cx="676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сего 8338 тыс. рублей, в том чис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042920" y="3213000"/>
            <a:ext cx="2233080" cy="936720"/>
            <a:chOff x="1042920" y="3213000"/>
            <a:chExt cx="2233080" cy="936720"/>
          </a:xfrm>
        </p:grpSpPr>
        <p:sp>
          <p:nvSpPr>
            <p:cNvPr id="238" name=""/>
            <p:cNvSpPr/>
            <p:nvPr/>
          </p:nvSpPr>
          <p:spPr>
            <a:xfrm>
              <a:off x="1042920" y="3922560"/>
              <a:ext cx="2229480" cy="22032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46520" y="3213000"/>
              <a:ext cx="2229480" cy="936720"/>
            </a:xfrm>
            <a:prstGeom prst="can">
              <a:avLst>
                <a:gd name="adj" fmla="val 25000"/>
              </a:avLst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1042920" y="2421000"/>
            <a:ext cx="2280960" cy="720720"/>
            <a:chOff x="1042920" y="2421000"/>
            <a:chExt cx="2280960" cy="720720"/>
          </a:xfrm>
        </p:grpSpPr>
        <p:sp>
          <p:nvSpPr>
            <p:cNvPr id="241" name=""/>
            <p:cNvSpPr/>
            <p:nvPr/>
          </p:nvSpPr>
          <p:spPr>
            <a:xfrm>
              <a:off x="1042920" y="2967120"/>
              <a:ext cx="2277000" cy="1695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046880" y="2421000"/>
              <a:ext cx="2277000" cy="720720"/>
            </a:xfrm>
            <a:prstGeom prst="can">
              <a:avLst>
                <a:gd name="adj" fmla="val 25000"/>
              </a:avLst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1066680" y="1828800"/>
            <a:ext cx="2295360" cy="447840"/>
            <a:chOff x="1066680" y="1828800"/>
            <a:chExt cx="2295360" cy="447840"/>
          </a:xfrm>
        </p:grpSpPr>
        <p:sp>
          <p:nvSpPr>
            <p:cNvPr id="244" name=""/>
            <p:cNvSpPr/>
            <p:nvPr/>
          </p:nvSpPr>
          <p:spPr>
            <a:xfrm>
              <a:off x="1066680" y="2168280"/>
              <a:ext cx="2291400" cy="1051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70640" y="1828800"/>
              <a:ext cx="2291400" cy="447840"/>
            </a:xfrm>
            <a:prstGeom prst="can">
              <a:avLst>
                <a:gd name="adj" fmla="val 25000"/>
              </a:avLst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492360" y="1773360"/>
            <a:ext cx="5040360" cy="5047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16000" y="184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51280" y="1844640"/>
            <a:ext cx="44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Общеэкономические вопросы» 04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16000" y="2492280"/>
            <a:ext cx="21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16000" y="3429000"/>
            <a:ext cx="21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1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92360" y="2421000"/>
            <a:ext cx="5040360" cy="7189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08360" y="2492280"/>
            <a:ext cx="44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Сельское хозяйство и рыболовство»  04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19640" y="3213000"/>
            <a:ext cx="5111640" cy="9367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64000" y="5950080"/>
            <a:ext cx="45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Транспорт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04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48000" y="1844640"/>
            <a:ext cx="533520" cy="380880"/>
          </a:xfrm>
          <a:prstGeom prst="rightArrow">
            <a:avLst>
              <a:gd name="adj1" fmla="val 50000"/>
              <a:gd name="adj2" fmla="val 583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0280"/>
            <a:ext cx="533160" cy="381240"/>
          </a:xfrm>
          <a:prstGeom prst="rightArrow">
            <a:avLst>
              <a:gd name="adj1" fmla="val 50000"/>
              <a:gd name="adj2" fmla="val 582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971640" y="4221000"/>
            <a:ext cx="2232720" cy="1368720"/>
            <a:chOff x="971640" y="4221000"/>
            <a:chExt cx="2232720" cy="1368720"/>
          </a:xfrm>
        </p:grpSpPr>
        <p:sp>
          <p:nvSpPr>
            <p:cNvPr id="258" name=""/>
            <p:cNvSpPr/>
            <p:nvPr/>
          </p:nvSpPr>
          <p:spPr>
            <a:xfrm>
              <a:off x="971640" y="5257800"/>
              <a:ext cx="2229120" cy="3218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75240" y="4221000"/>
              <a:ext cx="2229120" cy="1368720"/>
            </a:xfrm>
            <a:prstGeom prst="can">
              <a:avLst>
                <a:gd name="adj" fmla="val 25000"/>
              </a:avLst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042920" y="4508640"/>
            <a:ext cx="21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48000" y="4292640"/>
            <a:ext cx="4969080" cy="9349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635280" y="4365720"/>
            <a:ext cx="446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Дорожное хозяйство (дорожные фонды)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4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48000" y="5877000"/>
            <a:ext cx="533520" cy="380880"/>
          </a:xfrm>
          <a:prstGeom prst="rightArrow">
            <a:avLst>
              <a:gd name="adj1" fmla="val 42500"/>
              <a:gd name="adj2" fmla="val 541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971640" y="5661000"/>
            <a:ext cx="2232720" cy="792360"/>
            <a:chOff x="971640" y="5661000"/>
            <a:chExt cx="2232720" cy="792360"/>
          </a:xfrm>
        </p:grpSpPr>
        <p:sp>
          <p:nvSpPr>
            <p:cNvPr id="265" name=""/>
            <p:cNvSpPr/>
            <p:nvPr/>
          </p:nvSpPr>
          <p:spPr>
            <a:xfrm>
              <a:off x="971640" y="6261480"/>
              <a:ext cx="2229120" cy="18648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75240" y="5661000"/>
              <a:ext cx="2229120" cy="79236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3348000" y="5516640"/>
            <a:ext cx="5111640" cy="9367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80000" y="3500280"/>
            <a:ext cx="45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Транспорт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04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42920" y="5805360"/>
            <a:ext cx="21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348000" y="2565360"/>
            <a:ext cx="533520" cy="380880"/>
          </a:xfrm>
          <a:prstGeom prst="rightArrow">
            <a:avLst>
              <a:gd name="adj1" fmla="val 50000"/>
              <a:gd name="adj2" fmla="val 583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03640" y="5805360"/>
            <a:ext cx="533160" cy="381240"/>
          </a:xfrm>
          <a:prstGeom prst="rightArrow">
            <a:avLst>
              <a:gd name="adj1" fmla="val 50000"/>
              <a:gd name="adj2" fmla="val 582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03640" y="4581360"/>
            <a:ext cx="533160" cy="381240"/>
          </a:xfrm>
          <a:prstGeom prst="rightArrow">
            <a:avLst>
              <a:gd name="adj1" fmla="val 50000"/>
              <a:gd name="adj2" fmla="val 582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08360" y="566100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ругие вопросы в области национальной экономики» 04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7885080" y="115920"/>
            <a:ext cx="98748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4278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Раздел 0500 «Жилищно-коммунальное хозяйств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066680" y="4495680"/>
            <a:ext cx="2295360" cy="1886040"/>
            <a:chOff x="1066680" y="4495680"/>
            <a:chExt cx="2295360" cy="1886040"/>
          </a:xfrm>
        </p:grpSpPr>
        <p:sp>
          <p:nvSpPr>
            <p:cNvPr id="277" name=""/>
            <p:cNvSpPr/>
            <p:nvPr/>
          </p:nvSpPr>
          <p:spPr>
            <a:xfrm>
              <a:off x="1066680" y="5924520"/>
              <a:ext cx="2291400" cy="44352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70640" y="4495680"/>
              <a:ext cx="2291400" cy="1886040"/>
            </a:xfrm>
            <a:prstGeom prst="can">
              <a:avLst>
                <a:gd name="adj" fmla="val 25000"/>
              </a:avLst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042920" y="2924280"/>
            <a:ext cx="2295360" cy="1365120"/>
            <a:chOff x="1042920" y="2924280"/>
            <a:chExt cx="2295360" cy="1365120"/>
          </a:xfrm>
        </p:grpSpPr>
        <p:sp>
          <p:nvSpPr>
            <p:cNvPr id="280" name=""/>
            <p:cNvSpPr/>
            <p:nvPr/>
          </p:nvSpPr>
          <p:spPr>
            <a:xfrm>
              <a:off x="1042920" y="3958560"/>
              <a:ext cx="2291400" cy="3211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46880" y="2924280"/>
              <a:ext cx="2291400" cy="1365120"/>
            </a:xfrm>
            <a:prstGeom prst="can">
              <a:avLst>
                <a:gd name="adj" fmla="val 25000"/>
              </a:avLst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1066680" y="1828800"/>
            <a:ext cx="2295360" cy="879480"/>
            <a:chOff x="1066680" y="1828800"/>
            <a:chExt cx="2295360" cy="879480"/>
          </a:xfrm>
        </p:grpSpPr>
        <p:sp>
          <p:nvSpPr>
            <p:cNvPr id="283" name=""/>
            <p:cNvSpPr/>
            <p:nvPr/>
          </p:nvSpPr>
          <p:spPr>
            <a:xfrm>
              <a:off x="1066680" y="2495160"/>
              <a:ext cx="2291400" cy="2066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70640" y="1828800"/>
              <a:ext cx="2291400" cy="879480"/>
            </a:xfrm>
            <a:prstGeom prst="can">
              <a:avLst>
                <a:gd name="adj" fmla="val 25000"/>
              </a:avLst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564000" y="1844640"/>
            <a:ext cx="4722840" cy="9111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16000" y="2060640"/>
            <a:ext cx="21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51280" y="21337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Жилищное хозяйство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5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042920" y="3284640"/>
            <a:ext cx="21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2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16000" y="5229360"/>
            <a:ext cx="21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6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564000" y="3068640"/>
            <a:ext cx="4649760" cy="11523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51280" y="342900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оммунальное хозяйство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5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64000" y="4724280"/>
            <a:ext cx="4649760" cy="151308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95640" y="5013360"/>
            <a:ext cx="416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Другие вопросы в области жилищно-коммунального хозяйства» 05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348000" y="2060640"/>
            <a:ext cx="533520" cy="380880"/>
          </a:xfrm>
          <a:prstGeom prst="rightArrow">
            <a:avLst>
              <a:gd name="adj1" fmla="val 50000"/>
              <a:gd name="adj2" fmla="val 583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348000" y="3429000"/>
            <a:ext cx="533520" cy="380880"/>
          </a:xfrm>
          <a:prstGeom prst="rightArrow">
            <a:avLst>
              <a:gd name="adj1" fmla="val 50000"/>
              <a:gd name="adj2" fmla="val 583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19640" y="5229360"/>
            <a:ext cx="533160" cy="380880"/>
          </a:xfrm>
          <a:prstGeom prst="rightArrow">
            <a:avLst>
              <a:gd name="adj1" fmla="val 50000"/>
              <a:gd name="adj2" fmla="val 5832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042920" y="1052640"/>
            <a:ext cx="71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сего 30735 тыс. рублей, в том чис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7885080" y="115920"/>
            <a:ext cx="98748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16436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Раздел 0700 «Образо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76000" y="981000"/>
            <a:ext cx="676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сего 97977 тыс. рублей, в том чис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042920" y="4365720"/>
            <a:ext cx="2233080" cy="433440"/>
            <a:chOff x="1042920" y="4365720"/>
            <a:chExt cx="2233080" cy="433440"/>
          </a:xfrm>
        </p:grpSpPr>
        <p:sp>
          <p:nvSpPr>
            <p:cNvPr id="302" name=""/>
            <p:cNvSpPr/>
            <p:nvPr/>
          </p:nvSpPr>
          <p:spPr>
            <a:xfrm>
              <a:off x="1042920" y="4694040"/>
              <a:ext cx="2229480" cy="10188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46520" y="4365720"/>
              <a:ext cx="2229480" cy="433440"/>
            </a:xfrm>
            <a:prstGeom prst="can">
              <a:avLst>
                <a:gd name="adj" fmla="val 25000"/>
              </a:avLst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042920" y="2708280"/>
            <a:ext cx="2233080" cy="1512720"/>
            <a:chOff x="1042920" y="2708280"/>
            <a:chExt cx="2233080" cy="1512720"/>
          </a:xfrm>
        </p:grpSpPr>
        <p:sp>
          <p:nvSpPr>
            <p:cNvPr id="305" name=""/>
            <p:cNvSpPr/>
            <p:nvPr/>
          </p:nvSpPr>
          <p:spPr>
            <a:xfrm>
              <a:off x="1042920" y="3854160"/>
              <a:ext cx="2229480" cy="3556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046520" y="2708280"/>
              <a:ext cx="2229480" cy="1512720"/>
            </a:xfrm>
            <a:prstGeom prst="can">
              <a:avLst>
                <a:gd name="adj" fmla="val 25000"/>
              </a:avLst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1042920" y="1484280"/>
            <a:ext cx="2319120" cy="1152720"/>
            <a:chOff x="1042920" y="1484280"/>
            <a:chExt cx="2319120" cy="1152720"/>
          </a:xfrm>
        </p:grpSpPr>
        <p:sp>
          <p:nvSpPr>
            <p:cNvPr id="308" name=""/>
            <p:cNvSpPr/>
            <p:nvPr/>
          </p:nvSpPr>
          <p:spPr>
            <a:xfrm>
              <a:off x="1042920" y="2357640"/>
              <a:ext cx="2315160" cy="2710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46880" y="1484280"/>
              <a:ext cx="2315160" cy="1152720"/>
            </a:xfrm>
            <a:prstGeom prst="can">
              <a:avLst>
                <a:gd name="adj" fmla="val 25000"/>
              </a:avLst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3492360" y="1557360"/>
            <a:ext cx="5040360" cy="1008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16000" y="184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3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780000" y="191628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Дошкольное образование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07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16000" y="3213000"/>
            <a:ext cx="21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61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87280" y="436572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492360" y="2781360"/>
            <a:ext cx="5040360" cy="129528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780000" y="328464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бщее образование» 07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419640" y="4221000"/>
            <a:ext cx="5111640" cy="5763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564000" y="5950080"/>
            <a:ext cx="45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Транспорт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04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348000" y="1844640"/>
            <a:ext cx="533520" cy="380880"/>
          </a:xfrm>
          <a:prstGeom prst="rightArrow">
            <a:avLst>
              <a:gd name="adj1" fmla="val 50000"/>
              <a:gd name="adj2" fmla="val 583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76720" y="3213000"/>
            <a:ext cx="533160" cy="381240"/>
          </a:xfrm>
          <a:prstGeom prst="rightArrow">
            <a:avLst>
              <a:gd name="adj1" fmla="val 50000"/>
              <a:gd name="adj2" fmla="val 582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971640" y="5013360"/>
            <a:ext cx="2232720" cy="576360"/>
            <a:chOff x="971640" y="5013360"/>
            <a:chExt cx="2232720" cy="576360"/>
          </a:xfrm>
        </p:grpSpPr>
        <p:sp>
          <p:nvSpPr>
            <p:cNvPr id="322" name=""/>
            <p:cNvSpPr/>
            <p:nvPr/>
          </p:nvSpPr>
          <p:spPr>
            <a:xfrm>
              <a:off x="971640" y="5450040"/>
              <a:ext cx="2229120" cy="1353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75240" y="5013360"/>
              <a:ext cx="2229120" cy="576360"/>
            </a:xfrm>
            <a:prstGeom prst="can">
              <a:avLst>
                <a:gd name="adj" fmla="val 25000"/>
              </a:avLst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971640" y="5013360"/>
            <a:ext cx="21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1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348000" y="4869000"/>
            <a:ext cx="4969080" cy="792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635280" y="494172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олодежная политика и оздоровление детей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07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48000" y="5877000"/>
            <a:ext cx="533520" cy="380880"/>
          </a:xfrm>
          <a:prstGeom prst="rightArrow">
            <a:avLst>
              <a:gd name="adj1" fmla="val 42500"/>
              <a:gd name="adj2" fmla="val 541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971640" y="5661000"/>
            <a:ext cx="2232720" cy="863640"/>
            <a:chOff x="971640" y="5661000"/>
            <a:chExt cx="2232720" cy="863640"/>
          </a:xfrm>
        </p:grpSpPr>
        <p:sp>
          <p:nvSpPr>
            <p:cNvPr id="329" name=""/>
            <p:cNvSpPr/>
            <p:nvPr/>
          </p:nvSpPr>
          <p:spPr>
            <a:xfrm>
              <a:off x="971640" y="6315480"/>
              <a:ext cx="2229120" cy="20304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75240" y="5661000"/>
              <a:ext cx="2229120" cy="86364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3348000" y="5877000"/>
            <a:ext cx="5111640" cy="5763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708360" y="422100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Профессиональная подготовка, переподготовка и повышение квалификации»  07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042920" y="5805360"/>
            <a:ext cx="21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4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203640" y="5950080"/>
            <a:ext cx="533160" cy="380880"/>
          </a:xfrm>
          <a:prstGeom prst="rightArrow">
            <a:avLst>
              <a:gd name="adj1" fmla="val 50000"/>
              <a:gd name="adj2" fmla="val 5832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3640" y="5084640"/>
            <a:ext cx="533160" cy="381240"/>
          </a:xfrm>
          <a:prstGeom prst="rightArrow">
            <a:avLst>
              <a:gd name="adj1" fmla="val 50000"/>
              <a:gd name="adj2" fmla="val 582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708360" y="5805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Другие вопросы в области образован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07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76720" y="4365720"/>
            <a:ext cx="533160" cy="380880"/>
          </a:xfrm>
          <a:prstGeom prst="rightArrow">
            <a:avLst>
              <a:gd name="adj1" fmla="val 50000"/>
              <a:gd name="adj2" fmla="val 5832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7885080" y="115920"/>
            <a:ext cx="98748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6358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Расходы на содержание одного ребенка в дошкольных учреждениях за 2011 год (в рубля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0" y="-1481040"/>
            <a:ext cx="9144000" cy="6248160"/>
          </a:xfrm>
          <a:prstGeom prst="blockArc">
            <a:avLst>
              <a:gd name="adj1" fmla="val 13199484"/>
              <a:gd name="adj2" fmla="val 19200516"/>
              <a:gd name="adj3" fmla="val 16556"/>
            </a:avLst>
          </a:prstGeom>
          <a:gradFill rotWithShape="0">
            <a:gsLst>
              <a:gs pos="0">
                <a:srgbClr val="bdcbdb"/>
              </a:gs>
              <a:gs pos="100000">
                <a:srgbClr val="0066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92280" y="3205080"/>
            <a:ext cx="7767360" cy="3043440"/>
          </a:xfrm>
          <a:custGeom>
            <a:avLst/>
            <a:gdLst/>
            <a:ahLst/>
            <a:rect l="l" t="t" r="r" b="b"/>
            <a:pathLst>
              <a:path w="4893" h="1917">
                <a:moveTo>
                  <a:pt x="4878" y="0"/>
                </a:moveTo>
                <a:cubicBezTo>
                  <a:pt x="4878" y="0"/>
                  <a:pt x="4891" y="226"/>
                  <a:pt x="4893" y="440"/>
                </a:cubicBezTo>
                <a:cubicBezTo>
                  <a:pt x="3867" y="440"/>
                  <a:pt x="3815" y="1811"/>
                  <a:pt x="2467" y="1917"/>
                </a:cubicBezTo>
                <a:cubicBezTo>
                  <a:pt x="1073" y="1877"/>
                  <a:pt x="1309" y="493"/>
                  <a:pt x="21" y="500"/>
                </a:cubicBezTo>
                <a:lnTo>
                  <a:pt x="0" y="2"/>
                </a:lnTo>
                <a:cubicBezTo>
                  <a:pt x="620" y="518"/>
                  <a:pt x="1873" y="671"/>
                  <a:pt x="2461" y="667"/>
                </a:cubicBezTo>
                <a:cubicBezTo>
                  <a:pt x="2461" y="667"/>
                  <a:pt x="4076" y="668"/>
                  <a:pt x="4878" y="0"/>
                </a:cubicBez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2216160" y="5172120"/>
            <a:ext cx="874800" cy="71280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970600" y="5187960"/>
            <a:ext cx="874800" cy="71280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666360" y="4827600"/>
            <a:ext cx="1143000" cy="33192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362720" y="4822920"/>
            <a:ext cx="1103400" cy="33156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732040" y="4584600"/>
            <a:ext cx="366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редний  расход на содержание  одного ребенка за 2011 год составил  65471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227320" y="3182760"/>
            <a:ext cx="874800" cy="712800"/>
          </a:xfrm>
          <a:prstGeom prst="line">
            <a:avLst/>
          </a:prstGeom>
          <a:ln w="9360">
            <a:solidFill>
              <a:srgbClr val="f8f8f8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81760" y="3198960"/>
            <a:ext cx="874800" cy="712800"/>
          </a:xfrm>
          <a:prstGeom prst="line">
            <a:avLst/>
          </a:prstGeom>
          <a:ln w="9360">
            <a:solidFill>
              <a:srgbClr val="f8f8f8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575240" y="3381480"/>
            <a:ext cx="0" cy="825480"/>
          </a:xfrm>
          <a:prstGeom prst="line">
            <a:avLst/>
          </a:prstGeom>
          <a:ln w="9360">
            <a:solidFill>
              <a:srgbClr val="f8f8f8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" y="3187800"/>
            <a:ext cx="7743960" cy="1036440"/>
          </a:xfrm>
          <a:custGeom>
            <a:avLst/>
            <a:gdLst/>
            <a:ahLst/>
            <a:rect l="l" t="t" r="r" b="b"/>
            <a:pathLst>
              <a:path w="4878" h="653">
                <a:moveTo>
                  <a:pt x="0" y="0"/>
                </a:moveTo>
                <a:cubicBezTo>
                  <a:pt x="522" y="422"/>
                  <a:pt x="1577" y="653"/>
                  <a:pt x="2443" y="649"/>
                </a:cubicBezTo>
                <a:cubicBezTo>
                  <a:pt x="3387" y="645"/>
                  <a:pt x="4229" y="447"/>
                  <a:pt x="4878" y="17"/>
                </a:cubicBezTo>
              </a:path>
            </a:pathLst>
          </a:custGeom>
          <a:noFill/>
          <a:ln w="28440">
            <a:solidFill>
              <a:srgbClr val="ffffff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684360" y="2421000"/>
            <a:ext cx="1008000" cy="1003320"/>
            <a:chOff x="684360" y="2421000"/>
            <a:chExt cx="1008000" cy="1003320"/>
          </a:xfrm>
        </p:grpSpPr>
        <p:grpSp>
          <p:nvGrpSpPr>
            <p:cNvPr id="352" name=""/>
            <p:cNvGrpSpPr/>
            <p:nvPr/>
          </p:nvGrpSpPr>
          <p:grpSpPr>
            <a:xfrm>
              <a:off x="684360" y="2421000"/>
              <a:ext cx="1008000" cy="1003320"/>
              <a:chOff x="684360" y="2421000"/>
              <a:chExt cx="1008000" cy="1003320"/>
            </a:xfrm>
          </p:grpSpPr>
          <p:pic>
            <p:nvPicPr>
              <p:cNvPr id="35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79760" y="3207600"/>
                <a:ext cx="830160" cy="21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84360" y="2421000"/>
                <a:ext cx="1008000" cy="9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>
                <a:off x="684360" y="2421000"/>
                <a:ext cx="1001160" cy="927720"/>
              </a:xfrm>
              <a:prstGeom prst="ellipse">
                <a:avLst/>
              </a:prstGeom>
              <a:gradFill rotWithShape="0">
                <a:gsLst>
                  <a:gs pos="0">
                    <a:srgbClr val="a140a1">
                      <a:alpha val="90196"/>
                    </a:srgbClr>
                  </a:gs>
                  <a:gs pos="50000">
                    <a:srgbClr val="ff66ff">
                      <a:alpha val="55294"/>
                    </a:srgbClr>
                  </a:gs>
                  <a:gs pos="100000">
                    <a:srgbClr val="a140a1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6" name="" descr=""/>
            <p:cNvPicPr/>
            <p:nvPr/>
          </p:nvPicPr>
          <p:blipFill>
            <a:blip r:embed="rId4"/>
            <a:stretch/>
          </p:blipFill>
          <p:spPr>
            <a:xfrm>
              <a:off x="785160" y="2430360"/>
              <a:ext cx="795960" cy="32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"/>
          <p:cNvSpPr/>
          <p:nvPr/>
        </p:nvSpPr>
        <p:spPr>
          <a:xfrm>
            <a:off x="687240" y="27082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Arial"/>
              </a:rPr>
              <a:t>42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619280" y="2492280"/>
            <a:ext cx="1324080" cy="1379160"/>
            <a:chOff x="1619280" y="2492280"/>
            <a:chExt cx="1324080" cy="1379160"/>
          </a:xfrm>
        </p:grpSpPr>
        <p:grpSp>
          <p:nvGrpSpPr>
            <p:cNvPr id="359" name=""/>
            <p:cNvGrpSpPr/>
            <p:nvPr/>
          </p:nvGrpSpPr>
          <p:grpSpPr>
            <a:xfrm>
              <a:off x="1619280" y="2492280"/>
              <a:ext cx="1324080" cy="1379160"/>
              <a:chOff x="1619280" y="2492280"/>
              <a:chExt cx="1324080" cy="1379160"/>
            </a:xfrm>
          </p:grpSpPr>
          <p:pic>
            <p:nvPicPr>
              <p:cNvPr id="3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744920" y="3573720"/>
                <a:ext cx="1090440" cy="29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619280" y="2492280"/>
                <a:ext cx="1324080" cy="127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>
                <a:off x="1619280" y="2492280"/>
                <a:ext cx="1315080" cy="1275480"/>
              </a:xfrm>
              <a:prstGeom prst="ellipse">
                <a:avLst/>
              </a:prstGeom>
              <a:gradFill rotWithShape="0">
                <a:gsLst>
                  <a:gs pos="0">
                    <a:srgbClr val="121236">
                      <a:alpha val="90196"/>
                    </a:srgbClr>
                  </a:gs>
                  <a:gs pos="50000">
                    <a:srgbClr val="333399">
                      <a:alpha val="55294"/>
                    </a:srgbClr>
                  </a:gs>
                  <a:gs pos="100000">
                    <a:srgbClr val="121236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3" name="" descr=""/>
            <p:cNvPicPr/>
            <p:nvPr/>
          </p:nvPicPr>
          <p:blipFill>
            <a:blip r:embed="rId7"/>
            <a:stretch/>
          </p:blipFill>
          <p:spPr>
            <a:xfrm>
              <a:off x="1751040" y="2504880"/>
              <a:ext cx="1045440" cy="45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4" name=""/>
          <p:cNvSpPr/>
          <p:nvPr/>
        </p:nvSpPr>
        <p:spPr>
          <a:xfrm>
            <a:off x="5796000" y="28526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2843280" y="2565360"/>
            <a:ext cx="1512720" cy="1584000"/>
            <a:chOff x="2843280" y="2565360"/>
            <a:chExt cx="1512720" cy="1584000"/>
          </a:xfrm>
        </p:grpSpPr>
        <p:grpSp>
          <p:nvGrpSpPr>
            <p:cNvPr id="366" name=""/>
            <p:cNvGrpSpPr/>
            <p:nvPr/>
          </p:nvGrpSpPr>
          <p:grpSpPr>
            <a:xfrm>
              <a:off x="2843280" y="2565360"/>
              <a:ext cx="1512720" cy="1584000"/>
              <a:chOff x="2843280" y="2565360"/>
              <a:chExt cx="1512720" cy="1584000"/>
            </a:xfrm>
          </p:grpSpPr>
          <p:pic>
            <p:nvPicPr>
              <p:cNvPr id="367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986560" y="3807360"/>
                <a:ext cx="1245600" cy="34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843280" y="2565360"/>
                <a:ext cx="1512720" cy="14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"/>
              <p:cNvSpPr/>
              <p:nvPr/>
            </p:nvSpPr>
            <p:spPr>
              <a:xfrm>
                <a:off x="2843280" y="2565360"/>
                <a:ext cx="1502280" cy="146484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0" name="" descr=""/>
            <p:cNvPicPr/>
            <p:nvPr/>
          </p:nvPicPr>
          <p:blipFill>
            <a:blip r:embed="rId10">
              <a:lum bright="92000"/>
            </a:blip>
            <a:stretch/>
          </p:blipFill>
          <p:spPr>
            <a:xfrm>
              <a:off x="2993760" y="2579760"/>
              <a:ext cx="1194480" cy="51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1" name=""/>
          <p:cNvSpPr/>
          <p:nvPr/>
        </p:nvSpPr>
        <p:spPr>
          <a:xfrm>
            <a:off x="250920" y="1773360"/>
            <a:ext cx="128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b1bd2"/>
                </a:solidFill>
                <a:latin typeface="Arial"/>
              </a:rPr>
              <a:t>МД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b1bd2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db1bd2"/>
                </a:solidFill>
                <a:latin typeface="Arial"/>
              </a:rPr>
              <a:t>«Родничо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692360" y="1916280"/>
            <a:ext cx="128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b44f1"/>
                </a:solidFill>
                <a:latin typeface="Arial"/>
              </a:rPr>
              <a:t>МД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b44f1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3b44f1"/>
                </a:solidFill>
                <a:latin typeface="Arial"/>
              </a:rPr>
              <a:t>«Белоч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766520" y="285264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00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771640" y="213372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МД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«Баталински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62160" y="299736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Arial"/>
              </a:rPr>
              <a:t>567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067280" y="184464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fa0b7"/>
                </a:solidFill>
                <a:latin typeface="Arial"/>
              </a:rPr>
              <a:t>МД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fa0b7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3fa0b7"/>
                </a:solidFill>
                <a:latin typeface="Arial"/>
              </a:rPr>
              <a:t>«Ласточ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651640" y="148428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a45"/>
                </a:solidFill>
                <a:latin typeface="Arial"/>
              </a:rPr>
              <a:t>МДОУ «Колокольчи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093080" y="98100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fa0b7"/>
                </a:solidFill>
                <a:latin typeface="Arial"/>
              </a:rPr>
              <a:t>МД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fa0b7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3fa0b7"/>
                </a:solidFill>
                <a:latin typeface="Arial"/>
              </a:rPr>
              <a:t>«Светлячо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4067280" y="2349360"/>
            <a:ext cx="1656360" cy="1749600"/>
            <a:chOff x="4067280" y="2349360"/>
            <a:chExt cx="1656360" cy="1749600"/>
          </a:xfrm>
        </p:grpSpPr>
        <p:grpSp>
          <p:nvGrpSpPr>
            <p:cNvPr id="380" name=""/>
            <p:cNvGrpSpPr/>
            <p:nvPr/>
          </p:nvGrpSpPr>
          <p:grpSpPr>
            <a:xfrm>
              <a:off x="4067280" y="2349360"/>
              <a:ext cx="1656360" cy="1749600"/>
              <a:chOff x="4067280" y="2349360"/>
              <a:chExt cx="1656360" cy="1749600"/>
            </a:xfrm>
          </p:grpSpPr>
          <p:pic>
            <p:nvPicPr>
              <p:cNvPr id="38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224240" y="3720960"/>
                <a:ext cx="1364040" cy="37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067280" y="2349360"/>
                <a:ext cx="1656360" cy="161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"/>
              <p:cNvSpPr/>
              <p:nvPr/>
            </p:nvSpPr>
            <p:spPr>
              <a:xfrm>
                <a:off x="4067280" y="2349360"/>
                <a:ext cx="1645200" cy="1617840"/>
              </a:xfrm>
              <a:prstGeom prst="ellipse">
                <a:avLst/>
              </a:prstGeom>
              <a:gradFill rotWithShape="0">
                <a:gsLst>
                  <a:gs pos="0">
                    <a:srgbClr val="002828">
                      <a:alpha val="90196"/>
                    </a:srgbClr>
                  </a:gs>
                  <a:gs pos="50000">
                    <a:srgbClr val="009999">
                      <a:alpha val="55294"/>
                    </a:srgbClr>
                  </a:gs>
                  <a:gs pos="100000">
                    <a:srgbClr val="002828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84" name="" descr=""/>
            <p:cNvPicPr/>
            <p:nvPr/>
          </p:nvPicPr>
          <p:blipFill>
            <a:blip r:embed="rId13">
              <a:lum bright="92000"/>
            </a:blip>
            <a:stretch/>
          </p:blipFill>
          <p:spPr>
            <a:xfrm>
              <a:off x="4232160" y="2365560"/>
              <a:ext cx="130860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5" name=""/>
          <p:cNvSpPr/>
          <p:nvPr/>
        </p:nvSpPr>
        <p:spPr>
          <a:xfrm>
            <a:off x="4356360" y="292428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Arial"/>
              </a:rPr>
              <a:t>819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5508720" y="2133720"/>
            <a:ext cx="1726560" cy="1867680"/>
            <a:chOff x="5508720" y="2133720"/>
            <a:chExt cx="1726560" cy="1867680"/>
          </a:xfrm>
        </p:grpSpPr>
        <p:grpSp>
          <p:nvGrpSpPr>
            <p:cNvPr id="387" name=""/>
            <p:cNvGrpSpPr/>
            <p:nvPr/>
          </p:nvGrpSpPr>
          <p:grpSpPr>
            <a:xfrm>
              <a:off x="5508720" y="2133720"/>
              <a:ext cx="1726560" cy="1867680"/>
              <a:chOff x="5508720" y="2133720"/>
              <a:chExt cx="1726560" cy="1867680"/>
            </a:xfrm>
          </p:grpSpPr>
          <p:pic>
            <p:nvPicPr>
              <p:cNvPr id="388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5672520" y="3597840"/>
                <a:ext cx="1422000" cy="40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9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5508720" y="2133720"/>
                <a:ext cx="1726560" cy="17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>
                <a:off x="5508720" y="2133720"/>
                <a:ext cx="1715040" cy="1727280"/>
              </a:xfrm>
              <a:prstGeom prst="ellipse">
                <a:avLst/>
              </a:prstGeom>
              <a:gradFill rotWithShape="0">
                <a:gsLst>
                  <a:gs pos="0">
                    <a:srgbClr val="465e00">
                      <a:alpha val="90196"/>
                    </a:srgbClr>
                  </a:gs>
                  <a:gs pos="50000">
                    <a:srgbClr val="99cc00">
                      <a:alpha val="55294"/>
                    </a:srgbClr>
                  </a:gs>
                  <a:gs pos="100000">
                    <a:srgbClr val="465e0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1" name="" descr=""/>
            <p:cNvPicPr/>
            <p:nvPr/>
          </p:nvPicPr>
          <p:blipFill>
            <a:blip r:embed="rId16"/>
            <a:stretch/>
          </p:blipFill>
          <p:spPr>
            <a:xfrm>
              <a:off x="5680800" y="2151000"/>
              <a:ext cx="1364040" cy="60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"/>
          <p:cNvGrpSpPr/>
          <p:nvPr/>
        </p:nvGrpSpPr>
        <p:grpSpPr>
          <a:xfrm>
            <a:off x="6948360" y="1557360"/>
            <a:ext cx="1944000" cy="1893240"/>
            <a:chOff x="6948360" y="1557360"/>
            <a:chExt cx="1944000" cy="1893240"/>
          </a:xfrm>
        </p:grpSpPr>
        <p:grpSp>
          <p:nvGrpSpPr>
            <p:cNvPr id="393" name=""/>
            <p:cNvGrpSpPr/>
            <p:nvPr/>
          </p:nvGrpSpPr>
          <p:grpSpPr>
            <a:xfrm>
              <a:off x="6948360" y="1557360"/>
              <a:ext cx="1944000" cy="1893240"/>
              <a:chOff x="6948360" y="1557360"/>
              <a:chExt cx="1944000" cy="1893240"/>
            </a:xfrm>
          </p:grpSpPr>
          <p:pic>
            <p:nvPicPr>
              <p:cNvPr id="394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132680" y="3041640"/>
                <a:ext cx="1600920" cy="40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5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6948360" y="1557360"/>
                <a:ext cx="1944000" cy="174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948360" y="1557360"/>
                <a:ext cx="1931040" cy="1750680"/>
              </a:xfrm>
              <a:prstGeom prst="ellipse">
                <a:avLst/>
              </a:prstGeom>
              <a:gradFill rotWithShape="0">
                <a:gsLst>
                  <a:gs pos="0">
                    <a:srgbClr val="002828">
                      <a:alpha val="90196"/>
                    </a:srgbClr>
                  </a:gs>
                  <a:gs pos="50000">
                    <a:srgbClr val="009999">
                      <a:alpha val="55294"/>
                    </a:srgbClr>
                  </a:gs>
                  <a:gs pos="100000">
                    <a:srgbClr val="002828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7" name="" descr=""/>
            <p:cNvPicPr/>
            <p:nvPr/>
          </p:nvPicPr>
          <p:blipFill>
            <a:blip r:embed="rId19">
              <a:lum bright="92000"/>
            </a:blip>
            <a:stretch/>
          </p:blipFill>
          <p:spPr>
            <a:xfrm>
              <a:off x="7142040" y="1574640"/>
              <a:ext cx="1535760" cy="61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" name=""/>
          <p:cNvSpPr/>
          <p:nvPr/>
        </p:nvSpPr>
        <p:spPr>
          <a:xfrm>
            <a:off x="5796360" y="2781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Arial"/>
              </a:rPr>
              <a:t>1068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309080" y="220500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Arial"/>
              </a:rPr>
              <a:t>1123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0"/>
          <a:stretch/>
        </p:blipFill>
        <p:spPr>
          <a:xfrm>
            <a:off x="8028000" y="115920"/>
            <a:ext cx="98748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6562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Исполнение доходов бюджета  МО «Фировский район» за 201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79280" y="907920"/>
          <a:ext cx="8713800" cy="554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907920"/>
                    <a:ext cx="8713800" cy="55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956720" y="333360"/>
            <a:ext cx="987120" cy="11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463680" y="1231920"/>
          <a:ext cx="8216640" cy="488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3680" y="1231920"/>
                    <a:ext cx="8216640" cy="48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210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Динамика расходов по содержанию одного ребенка в дошкольных  учреждениях </a:t>
            </a:r>
            <a:br>
              <a:rPr sz="2400"/>
            </a:b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за 2010-2011 гг. (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4"/>
          <a:stretch/>
        </p:blipFill>
        <p:spPr>
          <a:xfrm>
            <a:off x="7885080" y="115920"/>
            <a:ext cx="98748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16436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Раздел 0700 «Образо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476000" y="981000"/>
            <a:ext cx="676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сего 97977 тыс. рублей, в том чис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1042920" y="4365720"/>
            <a:ext cx="2233080" cy="433440"/>
            <a:chOff x="1042920" y="4365720"/>
            <a:chExt cx="2233080" cy="433440"/>
          </a:xfrm>
        </p:grpSpPr>
        <p:sp>
          <p:nvSpPr>
            <p:cNvPr id="408" name=""/>
            <p:cNvSpPr/>
            <p:nvPr/>
          </p:nvSpPr>
          <p:spPr>
            <a:xfrm>
              <a:off x="1042920" y="4694040"/>
              <a:ext cx="2229480" cy="10188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46520" y="4365720"/>
              <a:ext cx="2229480" cy="433440"/>
            </a:xfrm>
            <a:prstGeom prst="can">
              <a:avLst>
                <a:gd name="adj" fmla="val 25000"/>
              </a:avLst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042920" y="2708280"/>
            <a:ext cx="2233080" cy="1512720"/>
            <a:chOff x="1042920" y="2708280"/>
            <a:chExt cx="2233080" cy="1512720"/>
          </a:xfrm>
        </p:grpSpPr>
        <p:sp>
          <p:nvSpPr>
            <p:cNvPr id="411" name=""/>
            <p:cNvSpPr/>
            <p:nvPr/>
          </p:nvSpPr>
          <p:spPr>
            <a:xfrm>
              <a:off x="1042920" y="3854160"/>
              <a:ext cx="2229480" cy="3556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046520" y="2708280"/>
              <a:ext cx="2229480" cy="1512720"/>
            </a:xfrm>
            <a:prstGeom prst="can">
              <a:avLst>
                <a:gd name="adj" fmla="val 25000"/>
              </a:avLst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1042920" y="1484280"/>
            <a:ext cx="2319120" cy="1152720"/>
            <a:chOff x="1042920" y="1484280"/>
            <a:chExt cx="2319120" cy="1152720"/>
          </a:xfrm>
        </p:grpSpPr>
        <p:sp>
          <p:nvSpPr>
            <p:cNvPr id="414" name=""/>
            <p:cNvSpPr/>
            <p:nvPr/>
          </p:nvSpPr>
          <p:spPr>
            <a:xfrm>
              <a:off x="1042920" y="2357640"/>
              <a:ext cx="2315160" cy="2710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046880" y="1484280"/>
              <a:ext cx="2315160" cy="1152720"/>
            </a:xfrm>
            <a:prstGeom prst="can">
              <a:avLst>
                <a:gd name="adj" fmla="val 25000"/>
              </a:avLst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3492360" y="1557360"/>
            <a:ext cx="5040360" cy="1008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16000" y="184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3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780000" y="191628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Дошкольное образование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07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116000" y="3213000"/>
            <a:ext cx="21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61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187280" y="436572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492360" y="2781360"/>
            <a:ext cx="5040360" cy="129528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780000" y="328464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бщее образование» 07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419640" y="4221000"/>
            <a:ext cx="5111640" cy="5763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64000" y="5950080"/>
            <a:ext cx="45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Транспорт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04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348000" y="1844640"/>
            <a:ext cx="533520" cy="380880"/>
          </a:xfrm>
          <a:prstGeom prst="rightArrow">
            <a:avLst>
              <a:gd name="adj1" fmla="val 50000"/>
              <a:gd name="adj2" fmla="val 583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276720" y="3213000"/>
            <a:ext cx="533160" cy="381240"/>
          </a:xfrm>
          <a:prstGeom prst="rightArrow">
            <a:avLst>
              <a:gd name="adj1" fmla="val 50000"/>
              <a:gd name="adj2" fmla="val 582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971640" y="5013360"/>
            <a:ext cx="2232720" cy="576360"/>
            <a:chOff x="971640" y="5013360"/>
            <a:chExt cx="2232720" cy="576360"/>
          </a:xfrm>
        </p:grpSpPr>
        <p:sp>
          <p:nvSpPr>
            <p:cNvPr id="428" name=""/>
            <p:cNvSpPr/>
            <p:nvPr/>
          </p:nvSpPr>
          <p:spPr>
            <a:xfrm>
              <a:off x="971640" y="5450040"/>
              <a:ext cx="2229120" cy="1353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975240" y="5013360"/>
              <a:ext cx="2229120" cy="576360"/>
            </a:xfrm>
            <a:prstGeom prst="can">
              <a:avLst>
                <a:gd name="adj" fmla="val 25000"/>
              </a:avLst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971640" y="5013360"/>
            <a:ext cx="21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1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348000" y="4869000"/>
            <a:ext cx="4969080" cy="792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635280" y="494172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олодежная политика и оздоровление детей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07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348000" y="5877000"/>
            <a:ext cx="533520" cy="380880"/>
          </a:xfrm>
          <a:prstGeom prst="rightArrow">
            <a:avLst>
              <a:gd name="adj1" fmla="val 42500"/>
              <a:gd name="adj2" fmla="val 541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971640" y="5661000"/>
            <a:ext cx="2232720" cy="863640"/>
            <a:chOff x="971640" y="5661000"/>
            <a:chExt cx="2232720" cy="863640"/>
          </a:xfrm>
        </p:grpSpPr>
        <p:sp>
          <p:nvSpPr>
            <p:cNvPr id="435" name=""/>
            <p:cNvSpPr/>
            <p:nvPr/>
          </p:nvSpPr>
          <p:spPr>
            <a:xfrm>
              <a:off x="971640" y="6315480"/>
              <a:ext cx="2229120" cy="20304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975240" y="5661000"/>
              <a:ext cx="2229120" cy="86364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348000" y="5877000"/>
            <a:ext cx="5111640" cy="5763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708360" y="422100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Профессиональная подготовка, переподготовка и повышение квалификации»  07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042920" y="5805360"/>
            <a:ext cx="21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4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203640" y="5950080"/>
            <a:ext cx="533160" cy="380880"/>
          </a:xfrm>
          <a:prstGeom prst="rightArrow">
            <a:avLst>
              <a:gd name="adj1" fmla="val 50000"/>
              <a:gd name="adj2" fmla="val 5832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03640" y="5084640"/>
            <a:ext cx="533160" cy="381240"/>
          </a:xfrm>
          <a:prstGeom prst="rightArrow">
            <a:avLst>
              <a:gd name="adj1" fmla="val 50000"/>
              <a:gd name="adj2" fmla="val 582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708360" y="5805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Другие вопросы в области образован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07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6720" y="4365720"/>
            <a:ext cx="533160" cy="380880"/>
          </a:xfrm>
          <a:prstGeom prst="rightArrow">
            <a:avLst>
              <a:gd name="adj1" fmla="val 50000"/>
              <a:gd name="adj2" fmla="val 5832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7885080" y="115920"/>
            <a:ext cx="98748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78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Расходы на содержание одного школьника в общеобразовательных учреждениях за 2011 год (в рубля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0" y="-1481040"/>
            <a:ext cx="9144000" cy="6248160"/>
          </a:xfrm>
          <a:prstGeom prst="blockArc">
            <a:avLst>
              <a:gd name="adj1" fmla="val 13199484"/>
              <a:gd name="adj2" fmla="val 19200516"/>
              <a:gd name="adj3" fmla="val 16556"/>
            </a:avLst>
          </a:prstGeom>
          <a:gradFill rotWithShape="0">
            <a:gsLst>
              <a:gs pos="0">
                <a:srgbClr val="bdcbdb"/>
              </a:gs>
              <a:gs pos="100000">
                <a:srgbClr val="0066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92280" y="3205080"/>
            <a:ext cx="7767360" cy="3043440"/>
          </a:xfrm>
          <a:custGeom>
            <a:avLst/>
            <a:gdLst/>
            <a:ahLst/>
            <a:rect l="l" t="t" r="r" b="b"/>
            <a:pathLst>
              <a:path w="4893" h="1917">
                <a:moveTo>
                  <a:pt x="4878" y="0"/>
                </a:moveTo>
                <a:cubicBezTo>
                  <a:pt x="4878" y="0"/>
                  <a:pt x="4891" y="226"/>
                  <a:pt x="4893" y="440"/>
                </a:cubicBezTo>
                <a:cubicBezTo>
                  <a:pt x="3867" y="440"/>
                  <a:pt x="3815" y="1811"/>
                  <a:pt x="2467" y="1917"/>
                </a:cubicBezTo>
                <a:cubicBezTo>
                  <a:pt x="1073" y="1877"/>
                  <a:pt x="1309" y="493"/>
                  <a:pt x="21" y="500"/>
                </a:cubicBezTo>
                <a:lnTo>
                  <a:pt x="0" y="2"/>
                </a:lnTo>
                <a:cubicBezTo>
                  <a:pt x="620" y="518"/>
                  <a:pt x="1873" y="671"/>
                  <a:pt x="2461" y="667"/>
                </a:cubicBezTo>
                <a:cubicBezTo>
                  <a:pt x="2461" y="667"/>
                  <a:pt x="4076" y="668"/>
                  <a:pt x="4878" y="0"/>
                </a:cubicBez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2216160" y="5172120"/>
            <a:ext cx="874800" cy="71280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970600" y="5187960"/>
            <a:ext cx="874800" cy="71280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666360" y="4827600"/>
            <a:ext cx="1143000" cy="33192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362720" y="4822920"/>
            <a:ext cx="1103400" cy="33156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732040" y="4584600"/>
            <a:ext cx="366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редний  расход на содержание  одного школьника за 2011 год составил  62896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2227320" y="3182760"/>
            <a:ext cx="874800" cy="712800"/>
          </a:xfrm>
          <a:prstGeom prst="line">
            <a:avLst/>
          </a:prstGeom>
          <a:ln w="9360">
            <a:solidFill>
              <a:srgbClr val="f8f8f8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981760" y="3198960"/>
            <a:ext cx="874800" cy="712800"/>
          </a:xfrm>
          <a:prstGeom prst="line">
            <a:avLst/>
          </a:prstGeom>
          <a:ln w="9360">
            <a:solidFill>
              <a:srgbClr val="f8f8f8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5240" y="3381480"/>
            <a:ext cx="0" cy="825480"/>
          </a:xfrm>
          <a:prstGeom prst="line">
            <a:avLst/>
          </a:prstGeom>
          <a:ln w="9360">
            <a:solidFill>
              <a:srgbClr val="f8f8f8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3187800"/>
            <a:ext cx="7743960" cy="1036440"/>
          </a:xfrm>
          <a:custGeom>
            <a:avLst/>
            <a:gdLst/>
            <a:ahLst/>
            <a:rect l="l" t="t" r="r" b="b"/>
            <a:pathLst>
              <a:path w="4878" h="653">
                <a:moveTo>
                  <a:pt x="0" y="0"/>
                </a:moveTo>
                <a:cubicBezTo>
                  <a:pt x="522" y="422"/>
                  <a:pt x="1577" y="653"/>
                  <a:pt x="2443" y="649"/>
                </a:cubicBezTo>
                <a:cubicBezTo>
                  <a:pt x="3387" y="645"/>
                  <a:pt x="4229" y="447"/>
                  <a:pt x="4878" y="17"/>
                </a:cubicBezTo>
              </a:path>
            </a:pathLst>
          </a:custGeom>
          <a:noFill/>
          <a:ln w="28440">
            <a:solidFill>
              <a:srgbClr val="ffffff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468360" y="2421000"/>
            <a:ext cx="863640" cy="858600"/>
            <a:chOff x="468360" y="2421000"/>
            <a:chExt cx="863640" cy="858600"/>
          </a:xfrm>
        </p:grpSpPr>
        <p:grpSp>
          <p:nvGrpSpPr>
            <p:cNvPr id="458" name=""/>
            <p:cNvGrpSpPr/>
            <p:nvPr/>
          </p:nvGrpSpPr>
          <p:grpSpPr>
            <a:xfrm>
              <a:off x="468360" y="2421000"/>
              <a:ext cx="863640" cy="858600"/>
              <a:chOff x="468360" y="2421000"/>
              <a:chExt cx="863640" cy="858600"/>
            </a:xfrm>
          </p:grpSpPr>
          <p:pic>
            <p:nvPicPr>
              <p:cNvPr id="45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50080" y="3094200"/>
                <a:ext cx="711000" cy="18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360" y="2421000"/>
                <a:ext cx="863640" cy="79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>
                <a:off x="468360" y="2421000"/>
                <a:ext cx="857880" cy="793800"/>
              </a:xfrm>
              <a:prstGeom prst="ellipse">
                <a:avLst/>
              </a:prstGeom>
              <a:gradFill rotWithShape="0">
                <a:gsLst>
                  <a:gs pos="0">
                    <a:srgbClr val="a140a1">
                      <a:alpha val="90196"/>
                    </a:srgbClr>
                  </a:gs>
                  <a:gs pos="50000">
                    <a:srgbClr val="ff66ff">
                      <a:alpha val="55294"/>
                    </a:srgbClr>
                  </a:gs>
                  <a:gs pos="100000">
                    <a:srgbClr val="a140a1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2" name="" descr=""/>
            <p:cNvPicPr/>
            <p:nvPr/>
          </p:nvPicPr>
          <p:blipFill>
            <a:blip r:embed="rId4"/>
            <a:stretch/>
          </p:blipFill>
          <p:spPr>
            <a:xfrm>
              <a:off x="554760" y="2428920"/>
              <a:ext cx="681840" cy="28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3" name=""/>
          <p:cNvSpPr/>
          <p:nvPr/>
        </p:nvSpPr>
        <p:spPr>
          <a:xfrm>
            <a:off x="469800" y="26370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Arial"/>
              </a:rPr>
              <a:t>381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1187280" y="2492280"/>
            <a:ext cx="1152720" cy="1234800"/>
            <a:chOff x="1187280" y="2492280"/>
            <a:chExt cx="1152720" cy="1234800"/>
          </a:xfrm>
        </p:grpSpPr>
        <p:grpSp>
          <p:nvGrpSpPr>
            <p:cNvPr id="465" name=""/>
            <p:cNvGrpSpPr/>
            <p:nvPr/>
          </p:nvGrpSpPr>
          <p:grpSpPr>
            <a:xfrm>
              <a:off x="1187280" y="2492280"/>
              <a:ext cx="1152720" cy="1234800"/>
              <a:chOff x="1187280" y="2492280"/>
              <a:chExt cx="1152720" cy="1234800"/>
            </a:xfrm>
          </p:grpSpPr>
          <p:pic>
            <p:nvPicPr>
              <p:cNvPr id="46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296360" y="3460320"/>
                <a:ext cx="949320" cy="26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187280" y="2492280"/>
                <a:ext cx="1152720" cy="113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"/>
              <p:cNvSpPr/>
              <p:nvPr/>
            </p:nvSpPr>
            <p:spPr>
              <a:xfrm>
                <a:off x="1187280" y="2492280"/>
                <a:ext cx="1144800" cy="1141920"/>
              </a:xfrm>
              <a:prstGeom prst="ellipse">
                <a:avLst/>
              </a:prstGeom>
              <a:gradFill rotWithShape="0">
                <a:gsLst>
                  <a:gs pos="0">
                    <a:srgbClr val="121236">
                      <a:alpha val="90196"/>
                    </a:srgbClr>
                  </a:gs>
                  <a:gs pos="50000">
                    <a:srgbClr val="333399">
                      <a:alpha val="55294"/>
                    </a:srgbClr>
                  </a:gs>
                  <a:gs pos="100000">
                    <a:srgbClr val="121236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9" name="" descr=""/>
            <p:cNvPicPr/>
            <p:nvPr/>
          </p:nvPicPr>
          <p:blipFill>
            <a:blip r:embed="rId7"/>
            <a:stretch/>
          </p:blipFill>
          <p:spPr>
            <a:xfrm>
              <a:off x="1302120" y="2503440"/>
              <a:ext cx="910440" cy="40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0" name=""/>
          <p:cNvGrpSpPr/>
          <p:nvPr/>
        </p:nvGrpSpPr>
        <p:grpSpPr>
          <a:xfrm>
            <a:off x="2050920" y="2492280"/>
            <a:ext cx="1511280" cy="1582560"/>
            <a:chOff x="2050920" y="2492280"/>
            <a:chExt cx="1511280" cy="1582560"/>
          </a:xfrm>
        </p:grpSpPr>
        <p:grpSp>
          <p:nvGrpSpPr>
            <p:cNvPr id="471" name=""/>
            <p:cNvGrpSpPr/>
            <p:nvPr/>
          </p:nvGrpSpPr>
          <p:grpSpPr>
            <a:xfrm>
              <a:off x="2050920" y="2492280"/>
              <a:ext cx="1511280" cy="1582560"/>
              <a:chOff x="2050920" y="2492280"/>
              <a:chExt cx="1511280" cy="1582560"/>
            </a:xfrm>
          </p:grpSpPr>
          <p:pic>
            <p:nvPicPr>
              <p:cNvPr id="47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194200" y="3733200"/>
                <a:ext cx="1244520" cy="34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050920" y="2492280"/>
                <a:ext cx="1511280" cy="145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4" name=""/>
              <p:cNvSpPr/>
              <p:nvPr/>
            </p:nvSpPr>
            <p:spPr>
              <a:xfrm>
                <a:off x="2050920" y="2492280"/>
                <a:ext cx="1500840" cy="146340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5" name="" descr=""/>
            <p:cNvPicPr/>
            <p:nvPr/>
          </p:nvPicPr>
          <p:blipFill>
            <a:blip r:embed="rId10">
              <a:lum bright="92000"/>
            </a:blip>
            <a:stretch/>
          </p:blipFill>
          <p:spPr>
            <a:xfrm>
              <a:off x="2201400" y="2506680"/>
              <a:ext cx="1193400" cy="51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6" name=""/>
          <p:cNvSpPr/>
          <p:nvPr/>
        </p:nvSpPr>
        <p:spPr>
          <a:xfrm>
            <a:off x="179280" y="2060640"/>
            <a:ext cx="128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b1bd2"/>
                </a:solidFill>
                <a:latin typeface="Arial"/>
              </a:rPr>
              <a:t>ФС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116000" y="2133720"/>
            <a:ext cx="128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b44f1"/>
                </a:solidFill>
                <a:latin typeface="Arial"/>
              </a:rPr>
              <a:t>ВОС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190160" y="285264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43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124000" y="22050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НО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98520" y="29242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Arial"/>
              </a:rPr>
              <a:t>839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276720" y="2133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fa0b7"/>
                </a:solidFill>
                <a:latin typeface="Arial"/>
              </a:rPr>
              <a:t>ЖО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940360" y="162864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cb1d2"/>
                </a:solidFill>
                <a:latin typeface="Arial"/>
              </a:rPr>
              <a:t>РС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572000" y="206064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cc00"/>
                </a:solidFill>
                <a:latin typeface="Arial"/>
              </a:rPr>
              <a:t>ЗНШ-Д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132000" y="2492280"/>
            <a:ext cx="1655280" cy="1749600"/>
            <a:chOff x="3132000" y="2492280"/>
            <a:chExt cx="1655280" cy="1749600"/>
          </a:xfrm>
        </p:grpSpPr>
        <p:grpSp>
          <p:nvGrpSpPr>
            <p:cNvPr id="485" name=""/>
            <p:cNvGrpSpPr/>
            <p:nvPr/>
          </p:nvGrpSpPr>
          <p:grpSpPr>
            <a:xfrm>
              <a:off x="3132000" y="2492280"/>
              <a:ext cx="1655280" cy="1749600"/>
              <a:chOff x="3132000" y="2492280"/>
              <a:chExt cx="1655280" cy="1749600"/>
            </a:xfrm>
          </p:grpSpPr>
          <p:pic>
            <p:nvPicPr>
              <p:cNvPr id="48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288960" y="3863880"/>
                <a:ext cx="1363320" cy="37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132000" y="2492280"/>
                <a:ext cx="1655280" cy="161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8" name=""/>
              <p:cNvSpPr/>
              <p:nvPr/>
            </p:nvSpPr>
            <p:spPr>
              <a:xfrm>
                <a:off x="3132000" y="2492280"/>
                <a:ext cx="1644120" cy="1617840"/>
              </a:xfrm>
              <a:prstGeom prst="ellipse">
                <a:avLst/>
              </a:prstGeom>
              <a:gradFill rotWithShape="0">
                <a:gsLst>
                  <a:gs pos="0">
                    <a:srgbClr val="002828">
                      <a:alpha val="90196"/>
                    </a:srgbClr>
                  </a:gs>
                  <a:gs pos="50000">
                    <a:srgbClr val="009999">
                      <a:alpha val="55294"/>
                    </a:srgbClr>
                  </a:gs>
                  <a:gs pos="100000">
                    <a:srgbClr val="002828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89" name="" descr=""/>
            <p:cNvPicPr/>
            <p:nvPr/>
          </p:nvPicPr>
          <p:blipFill>
            <a:blip r:embed="rId13">
              <a:lum bright="92000"/>
            </a:blip>
            <a:stretch/>
          </p:blipFill>
          <p:spPr>
            <a:xfrm>
              <a:off x="3296880" y="2508480"/>
              <a:ext cx="130752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0" name=""/>
          <p:cNvSpPr/>
          <p:nvPr/>
        </p:nvSpPr>
        <p:spPr>
          <a:xfrm>
            <a:off x="3348360" y="299736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Arial"/>
              </a:rPr>
              <a:t>917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4500720" y="2421000"/>
            <a:ext cx="1726200" cy="1867680"/>
            <a:chOff x="4500720" y="2421000"/>
            <a:chExt cx="1726200" cy="1867680"/>
          </a:xfrm>
        </p:grpSpPr>
        <p:grpSp>
          <p:nvGrpSpPr>
            <p:cNvPr id="492" name=""/>
            <p:cNvGrpSpPr/>
            <p:nvPr/>
          </p:nvGrpSpPr>
          <p:grpSpPr>
            <a:xfrm>
              <a:off x="4500720" y="2421000"/>
              <a:ext cx="1726200" cy="1867680"/>
              <a:chOff x="4500720" y="2421000"/>
              <a:chExt cx="1726200" cy="1867680"/>
            </a:xfrm>
          </p:grpSpPr>
          <p:pic>
            <p:nvPicPr>
              <p:cNvPr id="49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4664520" y="3885120"/>
                <a:ext cx="1421640" cy="40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4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500720" y="2421000"/>
                <a:ext cx="1726200" cy="17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5" name=""/>
              <p:cNvSpPr/>
              <p:nvPr/>
            </p:nvSpPr>
            <p:spPr>
              <a:xfrm>
                <a:off x="4500720" y="2421000"/>
                <a:ext cx="1714680" cy="1727280"/>
              </a:xfrm>
              <a:prstGeom prst="ellipse">
                <a:avLst/>
              </a:prstGeom>
              <a:gradFill rotWithShape="0">
                <a:gsLst>
                  <a:gs pos="0">
                    <a:srgbClr val="465e00">
                      <a:alpha val="90196"/>
                    </a:srgbClr>
                  </a:gs>
                  <a:gs pos="50000">
                    <a:srgbClr val="99cc00">
                      <a:alpha val="55294"/>
                    </a:srgbClr>
                  </a:gs>
                  <a:gs pos="100000">
                    <a:srgbClr val="465e0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6" name="" descr=""/>
            <p:cNvPicPr/>
            <p:nvPr/>
          </p:nvPicPr>
          <p:blipFill>
            <a:blip r:embed="rId16"/>
            <a:stretch/>
          </p:blipFill>
          <p:spPr>
            <a:xfrm>
              <a:off x="4672800" y="2438280"/>
              <a:ext cx="1363680" cy="60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7" name=""/>
          <p:cNvGrpSpPr/>
          <p:nvPr/>
        </p:nvGrpSpPr>
        <p:grpSpPr>
          <a:xfrm>
            <a:off x="5796000" y="1989000"/>
            <a:ext cx="1872360" cy="1893240"/>
            <a:chOff x="5796000" y="1989000"/>
            <a:chExt cx="1872360" cy="1893240"/>
          </a:xfrm>
        </p:grpSpPr>
        <p:grpSp>
          <p:nvGrpSpPr>
            <p:cNvPr id="498" name=""/>
            <p:cNvGrpSpPr/>
            <p:nvPr/>
          </p:nvGrpSpPr>
          <p:grpSpPr>
            <a:xfrm>
              <a:off x="5796000" y="1989000"/>
              <a:ext cx="1872360" cy="1893240"/>
              <a:chOff x="5796000" y="1989000"/>
              <a:chExt cx="1872360" cy="1893240"/>
            </a:xfrm>
          </p:grpSpPr>
          <p:pic>
            <p:nvPicPr>
              <p:cNvPr id="499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5973480" y="3473280"/>
                <a:ext cx="1541880" cy="40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0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796000" y="1989000"/>
                <a:ext cx="1872360" cy="174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1" name=""/>
              <p:cNvSpPr/>
              <p:nvPr/>
            </p:nvSpPr>
            <p:spPr>
              <a:xfrm>
                <a:off x="5796000" y="1989000"/>
                <a:ext cx="1859760" cy="1750680"/>
              </a:xfrm>
              <a:prstGeom prst="ellipse">
                <a:avLst/>
              </a:prstGeom>
              <a:gradFill rotWithShape="0">
                <a:gsLst>
                  <a:gs pos="0">
                    <a:srgbClr val="002828">
                      <a:alpha val="90196"/>
                    </a:srgbClr>
                  </a:gs>
                  <a:gs pos="50000">
                    <a:srgbClr val="009999">
                      <a:alpha val="55294"/>
                    </a:srgbClr>
                  </a:gs>
                  <a:gs pos="100000">
                    <a:srgbClr val="002828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2" name="" descr=""/>
            <p:cNvPicPr/>
            <p:nvPr/>
          </p:nvPicPr>
          <p:blipFill>
            <a:blip r:embed="rId19">
              <a:lum bright="92000"/>
            </a:blip>
            <a:stretch/>
          </p:blipFill>
          <p:spPr>
            <a:xfrm>
              <a:off x="5982480" y="2006280"/>
              <a:ext cx="1479240" cy="61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3" name=""/>
          <p:cNvSpPr/>
          <p:nvPr/>
        </p:nvSpPr>
        <p:spPr>
          <a:xfrm>
            <a:off x="6012360" y="263700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Arial"/>
              </a:rPr>
              <a:t>1064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716720" y="314172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Arial"/>
              </a:rPr>
              <a:t>1002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7308720" y="1413000"/>
            <a:ext cx="1834560" cy="1944000"/>
            <a:chOff x="7308720" y="1413000"/>
            <a:chExt cx="1834560" cy="1944000"/>
          </a:xfrm>
        </p:grpSpPr>
        <p:grpSp>
          <p:nvGrpSpPr>
            <p:cNvPr id="506" name=""/>
            <p:cNvGrpSpPr/>
            <p:nvPr/>
          </p:nvGrpSpPr>
          <p:grpSpPr>
            <a:xfrm>
              <a:off x="7308720" y="1413000"/>
              <a:ext cx="1834560" cy="1944000"/>
              <a:chOff x="7308720" y="1413000"/>
              <a:chExt cx="1834560" cy="1944000"/>
            </a:xfrm>
          </p:grpSpPr>
          <p:pic>
            <p:nvPicPr>
              <p:cNvPr id="507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7482600" y="2937240"/>
                <a:ext cx="1510920" cy="41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8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7308720" y="1413000"/>
                <a:ext cx="1834560" cy="179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>
                <a:off x="7308720" y="1413000"/>
                <a:ext cx="1822320" cy="179784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0" name="" descr=""/>
            <p:cNvPicPr/>
            <p:nvPr/>
          </p:nvPicPr>
          <p:blipFill>
            <a:blip r:embed="rId22">
              <a:lum bright="92000"/>
            </a:blip>
            <a:stretch/>
          </p:blipFill>
          <p:spPr>
            <a:xfrm>
              <a:off x="7491600" y="1431000"/>
              <a:ext cx="1449360" cy="63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1" name=""/>
          <p:cNvSpPr/>
          <p:nvPr/>
        </p:nvSpPr>
        <p:spPr>
          <a:xfrm>
            <a:off x="7380360" y="1125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ДО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596720" y="213372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Arial"/>
              </a:rPr>
              <a:t>1242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23"/>
          <a:stretch/>
        </p:blipFill>
        <p:spPr>
          <a:xfrm>
            <a:off x="7956720" y="0"/>
            <a:ext cx="98712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4" name=""/>
          <p:cNvGraphicFramePr/>
          <p:nvPr/>
        </p:nvGraphicFramePr>
        <p:xfrm>
          <a:off x="463680" y="1231920"/>
          <a:ext cx="8216640" cy="488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3680" y="1231920"/>
                    <a:ext cx="8216640" cy="48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21044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Динамика расходов на содержание одного школьника в общеобразовательных учреждениях за 2010-2011 гг. (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4"/>
          <a:stretch/>
        </p:blipFill>
        <p:spPr>
          <a:xfrm>
            <a:off x="7885080" y="115920"/>
            <a:ext cx="98748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16436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Раздел 0700 «Образо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476000" y="981000"/>
            <a:ext cx="676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сего 97977 тыс. рублей, в том чис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1042920" y="4365720"/>
            <a:ext cx="2233080" cy="433440"/>
            <a:chOff x="1042920" y="4365720"/>
            <a:chExt cx="2233080" cy="433440"/>
          </a:xfrm>
        </p:grpSpPr>
        <p:sp>
          <p:nvSpPr>
            <p:cNvPr id="521" name=""/>
            <p:cNvSpPr/>
            <p:nvPr/>
          </p:nvSpPr>
          <p:spPr>
            <a:xfrm>
              <a:off x="1042920" y="4694040"/>
              <a:ext cx="2229480" cy="10188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046520" y="4365720"/>
              <a:ext cx="2229480" cy="433440"/>
            </a:xfrm>
            <a:prstGeom prst="can">
              <a:avLst>
                <a:gd name="adj" fmla="val 25000"/>
              </a:avLst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1042920" y="2708280"/>
            <a:ext cx="2233080" cy="1512720"/>
            <a:chOff x="1042920" y="2708280"/>
            <a:chExt cx="2233080" cy="1512720"/>
          </a:xfrm>
        </p:grpSpPr>
        <p:sp>
          <p:nvSpPr>
            <p:cNvPr id="524" name=""/>
            <p:cNvSpPr/>
            <p:nvPr/>
          </p:nvSpPr>
          <p:spPr>
            <a:xfrm>
              <a:off x="1042920" y="3854160"/>
              <a:ext cx="2229480" cy="3556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046520" y="2708280"/>
              <a:ext cx="2229480" cy="1512720"/>
            </a:xfrm>
            <a:prstGeom prst="can">
              <a:avLst>
                <a:gd name="adj" fmla="val 25000"/>
              </a:avLst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1042920" y="1484280"/>
            <a:ext cx="2319120" cy="1152720"/>
            <a:chOff x="1042920" y="1484280"/>
            <a:chExt cx="2319120" cy="1152720"/>
          </a:xfrm>
        </p:grpSpPr>
        <p:sp>
          <p:nvSpPr>
            <p:cNvPr id="527" name=""/>
            <p:cNvSpPr/>
            <p:nvPr/>
          </p:nvSpPr>
          <p:spPr>
            <a:xfrm>
              <a:off x="1042920" y="2357640"/>
              <a:ext cx="2315160" cy="2710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046880" y="1484280"/>
              <a:ext cx="2315160" cy="1152720"/>
            </a:xfrm>
            <a:prstGeom prst="can">
              <a:avLst>
                <a:gd name="adj" fmla="val 25000"/>
              </a:avLst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3492360" y="1557360"/>
            <a:ext cx="5040360" cy="1008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116000" y="184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36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780000" y="191628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Дошкольное образование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07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116000" y="3213000"/>
            <a:ext cx="21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61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187280" y="436572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492360" y="2781360"/>
            <a:ext cx="5040360" cy="129528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780000" y="328464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бщее образование» 07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419640" y="4221000"/>
            <a:ext cx="5111640" cy="5763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564000" y="5950080"/>
            <a:ext cx="45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Транспорт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04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348000" y="1844640"/>
            <a:ext cx="533520" cy="380880"/>
          </a:xfrm>
          <a:prstGeom prst="rightArrow">
            <a:avLst>
              <a:gd name="adj1" fmla="val 50000"/>
              <a:gd name="adj2" fmla="val 583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276720" y="3213000"/>
            <a:ext cx="533160" cy="381240"/>
          </a:xfrm>
          <a:prstGeom prst="rightArrow">
            <a:avLst>
              <a:gd name="adj1" fmla="val 50000"/>
              <a:gd name="adj2" fmla="val 582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971640" y="5013360"/>
            <a:ext cx="2232720" cy="576360"/>
            <a:chOff x="971640" y="5013360"/>
            <a:chExt cx="2232720" cy="576360"/>
          </a:xfrm>
        </p:grpSpPr>
        <p:sp>
          <p:nvSpPr>
            <p:cNvPr id="541" name=""/>
            <p:cNvSpPr/>
            <p:nvPr/>
          </p:nvSpPr>
          <p:spPr>
            <a:xfrm>
              <a:off x="971640" y="5450040"/>
              <a:ext cx="2229120" cy="1353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975240" y="5013360"/>
              <a:ext cx="2229120" cy="576360"/>
            </a:xfrm>
            <a:prstGeom prst="can">
              <a:avLst>
                <a:gd name="adj" fmla="val 25000"/>
              </a:avLst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971640" y="5013360"/>
            <a:ext cx="21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1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348000" y="4869000"/>
            <a:ext cx="4969080" cy="792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635280" y="494172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олодежная политика и оздоровление детей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07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348000" y="5877000"/>
            <a:ext cx="533520" cy="380880"/>
          </a:xfrm>
          <a:prstGeom prst="rightArrow">
            <a:avLst>
              <a:gd name="adj1" fmla="val 42500"/>
              <a:gd name="adj2" fmla="val 541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971640" y="5661000"/>
            <a:ext cx="2232720" cy="863640"/>
            <a:chOff x="971640" y="5661000"/>
            <a:chExt cx="2232720" cy="863640"/>
          </a:xfrm>
        </p:grpSpPr>
        <p:sp>
          <p:nvSpPr>
            <p:cNvPr id="548" name=""/>
            <p:cNvSpPr/>
            <p:nvPr/>
          </p:nvSpPr>
          <p:spPr>
            <a:xfrm>
              <a:off x="971640" y="6315480"/>
              <a:ext cx="2229120" cy="20304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975240" y="5661000"/>
              <a:ext cx="2229120" cy="86364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3348000" y="5877000"/>
            <a:ext cx="5111640" cy="5763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708360" y="422100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Профессиональная подготовка, переподготовка и повышение квалификации»  07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042920" y="5805360"/>
            <a:ext cx="21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4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203640" y="5950080"/>
            <a:ext cx="533160" cy="380880"/>
          </a:xfrm>
          <a:prstGeom prst="rightArrow">
            <a:avLst>
              <a:gd name="adj1" fmla="val 50000"/>
              <a:gd name="adj2" fmla="val 5832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203640" y="5084640"/>
            <a:ext cx="533160" cy="381240"/>
          </a:xfrm>
          <a:prstGeom prst="rightArrow">
            <a:avLst>
              <a:gd name="adj1" fmla="val 50000"/>
              <a:gd name="adj2" fmla="val 582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708360" y="5805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Другие вопросы в области образован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07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276720" y="4365720"/>
            <a:ext cx="533160" cy="380880"/>
          </a:xfrm>
          <a:prstGeom prst="rightArrow">
            <a:avLst>
              <a:gd name="adj1" fmla="val 50000"/>
              <a:gd name="adj2" fmla="val 5832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885080" y="115920"/>
            <a:ext cx="98748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Раздел 0800 «Культура, кинематография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1042920" y="4437000"/>
            <a:ext cx="2295360" cy="1149480"/>
            <a:chOff x="1042920" y="4437000"/>
            <a:chExt cx="2295360" cy="1149480"/>
          </a:xfrm>
        </p:grpSpPr>
        <p:sp>
          <p:nvSpPr>
            <p:cNvPr id="560" name=""/>
            <p:cNvSpPr/>
            <p:nvPr/>
          </p:nvSpPr>
          <p:spPr>
            <a:xfrm>
              <a:off x="1042920" y="5307840"/>
              <a:ext cx="2291400" cy="2703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046880" y="4437000"/>
              <a:ext cx="2291400" cy="1149480"/>
            </a:xfrm>
            <a:prstGeom prst="can">
              <a:avLst>
                <a:gd name="adj" fmla="val 25000"/>
              </a:avLst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1066680" y="1828800"/>
            <a:ext cx="2295360" cy="2247840"/>
            <a:chOff x="1066680" y="1828800"/>
            <a:chExt cx="2295360" cy="2247840"/>
          </a:xfrm>
        </p:grpSpPr>
        <p:sp>
          <p:nvSpPr>
            <p:cNvPr id="563" name=""/>
            <p:cNvSpPr/>
            <p:nvPr/>
          </p:nvSpPr>
          <p:spPr>
            <a:xfrm>
              <a:off x="1066680" y="3531600"/>
              <a:ext cx="2291400" cy="5288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070640" y="1828800"/>
              <a:ext cx="2291400" cy="2247840"/>
            </a:xfrm>
            <a:prstGeom prst="can">
              <a:avLst>
                <a:gd name="adj" fmla="val 25000"/>
              </a:avLst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3492360" y="1916280"/>
            <a:ext cx="4722840" cy="19443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116000" y="2565360"/>
            <a:ext cx="21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8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211640" y="26370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ультур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042920" y="4724280"/>
            <a:ext cx="21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8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492360" y="4437000"/>
            <a:ext cx="4649760" cy="11527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780000" y="458136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Другие вопросы в области культуры, кинематографии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8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348000" y="2708280"/>
            <a:ext cx="533520" cy="380880"/>
          </a:xfrm>
          <a:prstGeom prst="rightArrow">
            <a:avLst>
              <a:gd name="adj1" fmla="val 50000"/>
              <a:gd name="adj2" fmla="val 583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348000" y="4797360"/>
            <a:ext cx="533520" cy="381240"/>
          </a:xfrm>
          <a:prstGeom prst="rightArrow">
            <a:avLst>
              <a:gd name="adj1" fmla="val 50000"/>
              <a:gd name="adj2" fmla="val 58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042920" y="836640"/>
            <a:ext cx="71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сего 19723 тыс. рублей, в том чис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7885080" y="115920"/>
            <a:ext cx="98748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1992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Раздел 0900 «Здравоохранение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402920" y="692280"/>
            <a:ext cx="676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сего 21074 тыс. рублей, в том чис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1042920" y="4221000"/>
            <a:ext cx="2233080" cy="578160"/>
            <a:chOff x="1042920" y="4221000"/>
            <a:chExt cx="2233080" cy="578160"/>
          </a:xfrm>
        </p:grpSpPr>
        <p:sp>
          <p:nvSpPr>
            <p:cNvPr id="578" name=""/>
            <p:cNvSpPr/>
            <p:nvPr/>
          </p:nvSpPr>
          <p:spPr>
            <a:xfrm>
              <a:off x="1042920" y="4659120"/>
              <a:ext cx="2229480" cy="13608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046520" y="4221000"/>
              <a:ext cx="2229480" cy="578160"/>
            </a:xfrm>
            <a:prstGeom prst="can">
              <a:avLst>
                <a:gd name="adj" fmla="val 25000"/>
              </a:avLst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1042920" y="3357720"/>
            <a:ext cx="2233080" cy="718920"/>
            <a:chOff x="1042920" y="3357720"/>
            <a:chExt cx="2233080" cy="718920"/>
          </a:xfrm>
        </p:grpSpPr>
        <p:sp>
          <p:nvSpPr>
            <p:cNvPr id="581" name=""/>
            <p:cNvSpPr/>
            <p:nvPr/>
          </p:nvSpPr>
          <p:spPr>
            <a:xfrm>
              <a:off x="1042920" y="3902400"/>
              <a:ext cx="2229480" cy="1692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046520" y="3357720"/>
              <a:ext cx="2229480" cy="718920"/>
            </a:xfrm>
            <a:prstGeom prst="can">
              <a:avLst>
                <a:gd name="adj" fmla="val 25000"/>
              </a:avLst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1042920" y="1484280"/>
            <a:ext cx="2319120" cy="1657440"/>
            <a:chOff x="1042920" y="1484280"/>
            <a:chExt cx="2319120" cy="1657440"/>
          </a:xfrm>
        </p:grpSpPr>
        <p:sp>
          <p:nvSpPr>
            <p:cNvPr id="584" name=""/>
            <p:cNvSpPr/>
            <p:nvPr/>
          </p:nvSpPr>
          <p:spPr>
            <a:xfrm>
              <a:off x="1042920" y="2739960"/>
              <a:ext cx="2315160" cy="3898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046880" y="1484280"/>
              <a:ext cx="2315160" cy="1657440"/>
            </a:xfrm>
            <a:prstGeom prst="can">
              <a:avLst>
                <a:gd name="adj" fmla="val 25000"/>
              </a:avLst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492360" y="1557360"/>
            <a:ext cx="5040360" cy="172728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116000" y="2205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31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780000" y="213372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тационарная медицинская помощь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09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116000" y="3357720"/>
            <a:ext cx="21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4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116000" y="429264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92360" y="3429000"/>
            <a:ext cx="5040360" cy="64764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780000" y="357336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Амбулаторная помощь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09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419640" y="4221000"/>
            <a:ext cx="5111640" cy="7207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348000" y="2205000"/>
            <a:ext cx="533520" cy="380880"/>
          </a:xfrm>
          <a:prstGeom prst="rightArrow">
            <a:avLst>
              <a:gd name="adj1" fmla="val 50000"/>
              <a:gd name="adj2" fmla="val 583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276720" y="3500280"/>
            <a:ext cx="533160" cy="452520"/>
          </a:xfrm>
          <a:prstGeom prst="rightArrow">
            <a:avLst>
              <a:gd name="adj1" fmla="val 50000"/>
              <a:gd name="adj2" fmla="val 4909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971640" y="5013360"/>
            <a:ext cx="2232720" cy="936720"/>
            <a:chOff x="971640" y="5013360"/>
            <a:chExt cx="2232720" cy="936720"/>
          </a:xfrm>
        </p:grpSpPr>
        <p:sp>
          <p:nvSpPr>
            <p:cNvPr id="597" name=""/>
            <p:cNvSpPr/>
            <p:nvPr/>
          </p:nvSpPr>
          <p:spPr>
            <a:xfrm>
              <a:off x="971640" y="5722920"/>
              <a:ext cx="2229120" cy="220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975240" y="5013360"/>
              <a:ext cx="2229120" cy="936720"/>
            </a:xfrm>
            <a:prstGeom prst="can">
              <a:avLst>
                <a:gd name="adj" fmla="val 25000"/>
              </a:avLst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1042920" y="5229360"/>
            <a:ext cx="21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0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348000" y="5084640"/>
            <a:ext cx="4969080" cy="7923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708360" y="530064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корая медицинская помощь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09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348000" y="5877000"/>
            <a:ext cx="533520" cy="380880"/>
          </a:xfrm>
          <a:prstGeom prst="rightArrow">
            <a:avLst>
              <a:gd name="adj1" fmla="val 42500"/>
              <a:gd name="adj2" fmla="val 541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971640" y="6093000"/>
            <a:ext cx="2232720" cy="431640"/>
            <a:chOff x="971640" y="6093000"/>
            <a:chExt cx="2232720" cy="431640"/>
          </a:xfrm>
        </p:grpSpPr>
        <p:sp>
          <p:nvSpPr>
            <p:cNvPr id="604" name=""/>
            <p:cNvSpPr/>
            <p:nvPr/>
          </p:nvSpPr>
          <p:spPr>
            <a:xfrm>
              <a:off x="971640" y="6420240"/>
              <a:ext cx="2229120" cy="10152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975240" y="6093000"/>
              <a:ext cx="2229120" cy="43164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3348000" y="5950080"/>
            <a:ext cx="5111640" cy="7189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708360" y="4149720"/>
            <a:ext cx="5040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Медицинская помощь в дневных стационарах всех типов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9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042920" y="6093000"/>
            <a:ext cx="21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276720" y="6165720"/>
            <a:ext cx="533160" cy="381240"/>
          </a:xfrm>
          <a:prstGeom prst="rightArrow">
            <a:avLst>
              <a:gd name="adj1" fmla="val 50000"/>
              <a:gd name="adj2" fmla="val 582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203640" y="5229360"/>
            <a:ext cx="533160" cy="380880"/>
          </a:xfrm>
          <a:prstGeom prst="rightArrow">
            <a:avLst>
              <a:gd name="adj1" fmla="val 50000"/>
              <a:gd name="adj2" fmla="val 5832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708360" y="59500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Другие вопросы в области здравоохранен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09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276720" y="4365720"/>
            <a:ext cx="533160" cy="380880"/>
          </a:xfrm>
          <a:prstGeom prst="rightArrow">
            <a:avLst>
              <a:gd name="adj1" fmla="val 50000"/>
              <a:gd name="adj2" fmla="val 5832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2"/>
          <a:stretch/>
        </p:blipFill>
        <p:spPr>
          <a:xfrm>
            <a:off x="7885080" y="115920"/>
            <a:ext cx="98748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7283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Раздел 1000 «Социальная полит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1042920" y="5157720"/>
            <a:ext cx="2295360" cy="949320"/>
            <a:chOff x="1042920" y="5157720"/>
            <a:chExt cx="2295360" cy="949320"/>
          </a:xfrm>
        </p:grpSpPr>
        <p:sp>
          <p:nvSpPr>
            <p:cNvPr id="616" name=""/>
            <p:cNvSpPr/>
            <p:nvPr/>
          </p:nvSpPr>
          <p:spPr>
            <a:xfrm>
              <a:off x="1042920" y="5877000"/>
              <a:ext cx="2291400" cy="22320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46880" y="5157720"/>
              <a:ext cx="2291400" cy="949320"/>
            </a:xfrm>
            <a:prstGeom prst="can">
              <a:avLst>
                <a:gd name="adj" fmla="val 25000"/>
              </a:avLst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1042920" y="3213000"/>
            <a:ext cx="2295360" cy="1656000"/>
            <a:chOff x="1042920" y="3213000"/>
            <a:chExt cx="2295360" cy="1656000"/>
          </a:xfrm>
        </p:grpSpPr>
        <p:sp>
          <p:nvSpPr>
            <p:cNvPr id="619" name=""/>
            <p:cNvSpPr/>
            <p:nvPr/>
          </p:nvSpPr>
          <p:spPr>
            <a:xfrm>
              <a:off x="1042920" y="4467600"/>
              <a:ext cx="2291400" cy="389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046880" y="3213000"/>
              <a:ext cx="2291400" cy="1656000"/>
            </a:xfrm>
            <a:prstGeom prst="can">
              <a:avLst>
                <a:gd name="adj" fmla="val 25000"/>
              </a:avLst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1066680" y="1828800"/>
            <a:ext cx="2295360" cy="1095480"/>
            <a:chOff x="1066680" y="1828800"/>
            <a:chExt cx="2295360" cy="1095480"/>
          </a:xfrm>
        </p:grpSpPr>
        <p:sp>
          <p:nvSpPr>
            <p:cNvPr id="622" name=""/>
            <p:cNvSpPr/>
            <p:nvPr/>
          </p:nvSpPr>
          <p:spPr>
            <a:xfrm>
              <a:off x="1066680" y="2658600"/>
              <a:ext cx="2291400" cy="2577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070640" y="1828800"/>
              <a:ext cx="2291400" cy="1095480"/>
            </a:xfrm>
            <a:prstGeom prst="can">
              <a:avLst>
                <a:gd name="adj" fmla="val 25000"/>
              </a:avLst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3564000" y="1844640"/>
            <a:ext cx="4722840" cy="1008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116000" y="2060640"/>
            <a:ext cx="21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851280" y="2133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енсионное обеспечение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116000" y="3716280"/>
            <a:ext cx="21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3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116000" y="5373720"/>
            <a:ext cx="21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564000" y="3284640"/>
            <a:ext cx="4649760" cy="15843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851280" y="364500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оциальное обеспечение населен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564000" y="5229360"/>
            <a:ext cx="4649760" cy="792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851280" y="5373720"/>
            <a:ext cx="416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храна семьи и детств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348000" y="2133720"/>
            <a:ext cx="533520" cy="380880"/>
          </a:xfrm>
          <a:prstGeom prst="rightArrow">
            <a:avLst>
              <a:gd name="adj1" fmla="val 50000"/>
              <a:gd name="adj2" fmla="val 583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348000" y="3789360"/>
            <a:ext cx="533520" cy="380880"/>
          </a:xfrm>
          <a:prstGeom prst="rightArrow">
            <a:avLst>
              <a:gd name="adj1" fmla="val 50000"/>
              <a:gd name="adj2" fmla="val 583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48000" y="5373720"/>
            <a:ext cx="533520" cy="380880"/>
          </a:xfrm>
          <a:prstGeom prst="rightArrow">
            <a:avLst>
              <a:gd name="adj1" fmla="val 50000"/>
              <a:gd name="adj2" fmla="val 583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042920" y="1052640"/>
            <a:ext cx="71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сего 6918 тыс. рублей, в том чис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7885080" y="115920"/>
            <a:ext cx="98748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Динамика расходов на физическую культуру и спорт (раздел 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2"/>
          <a:stretch/>
        </p:blipFill>
        <p:spPr>
          <a:xfrm>
            <a:off x="1066680" y="5084640"/>
            <a:ext cx="2784600" cy="104940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3"/>
          <a:stretch/>
        </p:blipFill>
        <p:spPr>
          <a:xfrm>
            <a:off x="4791240" y="4419720"/>
            <a:ext cx="2778120" cy="171432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4"/>
          <p:cNvSpPr/>
          <p:nvPr/>
        </p:nvSpPr>
        <p:spPr>
          <a:xfrm>
            <a:off x="1187280" y="5300640"/>
            <a:ext cx="24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4"/>
          <p:cNvSpPr/>
          <p:nvPr/>
        </p:nvSpPr>
        <p:spPr>
          <a:xfrm>
            <a:off x="4932360" y="5300640"/>
            <a:ext cx="24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1475640" y="1773360"/>
            <a:ext cx="2374920" cy="503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293" y="4905"/>
                </a:moveTo>
                <a:lnTo>
                  <a:pt x="23491" y="4905"/>
                </a:lnTo>
                <a:lnTo>
                  <a:pt x="23491" y="28073"/>
                </a:lnTo>
                <a:lnTo>
                  <a:pt x="18423" y="48855"/>
                </a:lnTo>
              </a:path>
              <a:path w="21600" h="21600">
                <a:moveTo>
                  <a:pt x="22293" y="0"/>
                </a:moveTo>
                <a:lnTo>
                  <a:pt x="22293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29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5653080" y="1843200"/>
            <a:ext cx="2806560" cy="36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6" y="6821"/>
                </a:moveTo>
                <a:lnTo>
                  <a:pt x="23505" y="6821"/>
                </a:lnTo>
                <a:lnTo>
                  <a:pt x="23505" y="37894"/>
                </a:lnTo>
                <a:lnTo>
                  <a:pt x="19449" y="65747"/>
                </a:lnTo>
              </a:path>
              <a:path w="21600" h="21600">
                <a:moveTo>
                  <a:pt x="22186" y="0"/>
                </a:moveTo>
                <a:lnTo>
                  <a:pt x="22186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36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4"/>
          <a:stretch/>
        </p:blipFill>
        <p:spPr>
          <a:xfrm>
            <a:off x="1258920" y="2781360"/>
            <a:ext cx="1800360" cy="252252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5"/>
          <a:stretch/>
        </p:blipFill>
        <p:spPr>
          <a:xfrm>
            <a:off x="5003640" y="2349360"/>
            <a:ext cx="1800360" cy="252252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6"/>
          <a:stretch/>
        </p:blipFill>
        <p:spPr>
          <a:xfrm>
            <a:off x="5867280" y="2349360"/>
            <a:ext cx="1800360" cy="252252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7"/>
          <a:stretch/>
        </p:blipFill>
        <p:spPr>
          <a:xfrm>
            <a:off x="7885080" y="115920"/>
            <a:ext cx="98748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Динамика расходов на средства массовой информации  (раздел 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2"/>
          <a:stretch/>
        </p:blipFill>
        <p:spPr>
          <a:xfrm>
            <a:off x="1066680" y="5084640"/>
            <a:ext cx="2784600" cy="104940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4791240" y="4419720"/>
            <a:ext cx="2778120" cy="171432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4"/>
          <p:cNvSpPr/>
          <p:nvPr/>
        </p:nvSpPr>
        <p:spPr>
          <a:xfrm>
            <a:off x="1187280" y="5300640"/>
            <a:ext cx="24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4932360" y="5300640"/>
            <a:ext cx="24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1475640" y="2205000"/>
            <a:ext cx="2374920" cy="503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293" y="4905"/>
                </a:moveTo>
                <a:lnTo>
                  <a:pt x="23491" y="4905"/>
                </a:lnTo>
                <a:lnTo>
                  <a:pt x="23491" y="28073"/>
                </a:lnTo>
                <a:lnTo>
                  <a:pt x="18423" y="48855"/>
                </a:lnTo>
              </a:path>
              <a:path w="21600" h="21600">
                <a:moveTo>
                  <a:pt x="22293" y="0"/>
                </a:moveTo>
                <a:lnTo>
                  <a:pt x="22293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034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5653080" y="1843200"/>
            <a:ext cx="2806560" cy="36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6" y="6821"/>
                </a:moveTo>
                <a:lnTo>
                  <a:pt x="23505" y="6821"/>
                </a:lnTo>
                <a:lnTo>
                  <a:pt x="23505" y="37894"/>
                </a:lnTo>
                <a:lnTo>
                  <a:pt x="19449" y="65747"/>
                </a:lnTo>
              </a:path>
              <a:path w="21600" h="21600">
                <a:moveTo>
                  <a:pt x="22186" y="0"/>
                </a:moveTo>
                <a:lnTo>
                  <a:pt x="22186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338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692360" y="3716280"/>
            <a:ext cx="66204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solidFill>
            <a:srgbClr val="0808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195640" y="3645000"/>
            <a:ext cx="66204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solidFill>
            <a:srgbClr val="0808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5508000" y="3068640"/>
            <a:ext cx="64764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solidFill>
            <a:srgbClr val="0808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6011280" y="3068640"/>
            <a:ext cx="64764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solidFill>
            <a:srgbClr val="0808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6442920" y="3068640"/>
            <a:ext cx="79236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solidFill>
            <a:srgbClr val="0808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4"/>
          <a:stretch/>
        </p:blipFill>
        <p:spPr>
          <a:xfrm>
            <a:off x="7885080" y="115920"/>
            <a:ext cx="98748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 rot="16200000">
            <a:off x="3263760" y="1488960"/>
            <a:ext cx="1908000" cy="503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3433680" y="1363680"/>
            <a:ext cx="1712520" cy="484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3350520" y="1477080"/>
            <a:ext cx="1755360" cy="4776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62" y="20932"/>
                </a:moveTo>
                <a:arcTo wR="10800" hR="10800" stAng="6615024" swAng="18750034"/>
                <a:lnTo>
                  <a:pt x="10800" y="10800"/>
                </a:lnTo>
                <a:close/>
              </a:path>
              <a:path fill="none" w="21600" h="21600">
                <a:moveTo>
                  <a:pt x="7062" y="20932"/>
                </a:moveTo>
                <a:arcTo wR="10800" hR="10800" stAng="6615024" swAng="18750034"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19640" y="3713040"/>
            <a:ext cx="11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88280" y="4146480"/>
            <a:ext cx="0" cy="14292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73840" y="4467240"/>
            <a:ext cx="0" cy="8712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188880" y="3836880"/>
            <a:ext cx="1258920" cy="103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523880" y="2792880"/>
            <a:ext cx="5845680" cy="2289600"/>
            <a:chOff x="1523880" y="2792880"/>
            <a:chExt cx="5845680" cy="2289600"/>
          </a:xfrm>
        </p:grpSpPr>
        <p:sp>
          <p:nvSpPr>
            <p:cNvPr id="55" name=""/>
            <p:cNvSpPr/>
            <p:nvPr/>
          </p:nvSpPr>
          <p:spPr>
            <a:xfrm rot="16200000">
              <a:off x="3301920" y="1014840"/>
              <a:ext cx="2289600" cy="5845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4" y="6497"/>
                  </a:moveTo>
                  <a:arcTo wR="10800" hR="10800" stAng="-9391229" swAng="13448554"/>
                  <a:lnTo>
                    <a:pt x="10800" y="10800"/>
                  </a:lnTo>
                  <a:close/>
                </a:path>
                <a:path fill="none" w="21600" h="21600">
                  <a:moveTo>
                    <a:pt x="894" y="6497"/>
                  </a:moveTo>
                  <a:arcTo wR="10800" hR="10800" stAng="-9391229" swAng="13448554"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926400" y="3163680"/>
              <a:ext cx="277560" cy="36648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133" y="72"/>
                  </a:moveTo>
                  <a:lnTo>
                    <a:pt x="141" y="161"/>
                  </a:lnTo>
                  <a:lnTo>
                    <a:pt x="15" y="186"/>
                  </a:lnTo>
                  <a:lnTo>
                    <a:pt x="0" y="0"/>
                  </a:lnTo>
                  <a:lnTo>
                    <a:pt x="133" y="72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 rot="16200000">
            <a:off x="3313800" y="810720"/>
            <a:ext cx="2291760" cy="5852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3124080"/>
            <a:ext cx="116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91120" y="412272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11</a:t>
            </a:r>
            <a:r>
              <a:rPr b="1" lang="ru-RU" sz="1400" spc="-1" strike="noStrike">
                <a:solidFill>
                  <a:srgbClr val="1c1c1c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38480" y="5029200"/>
            <a:ext cx="20289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лого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3581280"/>
            <a:ext cx="2028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налого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2276640"/>
            <a:ext cx="33130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возмездные поступ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8000" y="35733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34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Состав и структура доходов </a:t>
            </a:r>
            <a:br>
              <a:rPr sz="2400"/>
            </a:b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бюджета МО «Фировский район» в 2011 год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667640" y="260280"/>
            <a:ext cx="987480" cy="11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2700360" y="5013360"/>
            <a:ext cx="2448000" cy="398520"/>
            <a:chOff x="2700360" y="5013360"/>
            <a:chExt cx="2448000" cy="398520"/>
          </a:xfrm>
        </p:grpSpPr>
        <p:sp>
          <p:nvSpPr>
            <p:cNvPr id="663" name=""/>
            <p:cNvSpPr/>
            <p:nvPr/>
          </p:nvSpPr>
          <p:spPr>
            <a:xfrm>
              <a:off x="2700360" y="5013360"/>
              <a:ext cx="2448000" cy="398520"/>
            </a:xfrm>
            <a:prstGeom prst="roundRect">
              <a:avLst>
                <a:gd name="adj" fmla="val 50000"/>
              </a:avLst>
            </a:prstGeom>
            <a:solidFill>
              <a:srgbClr val="c91ae6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5070240" y="5021280"/>
              <a:ext cx="70920" cy="38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558" y="631"/>
                    <a:pt x="3516" y="5080"/>
                    <a:pt x="3516" y="10800"/>
                  </a:cubicBezTo>
                  <a:cubicBezTo>
                    <a:pt x="3516" y="16520"/>
                    <a:pt x="12558" y="2096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c91ae6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706480" y="5048640"/>
              <a:ext cx="47160" cy="31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c91ae6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707200" y="5019840"/>
              <a:ext cx="2430360" cy="308880"/>
            </a:xfrm>
            <a:prstGeom prst="roundRect">
              <a:avLst>
                <a:gd name="adj" fmla="val 50000"/>
              </a:avLst>
            </a:prstGeom>
            <a:solidFill>
              <a:srgbClr val="c91a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2987640" y="2060640"/>
            <a:ext cx="5113440" cy="438120"/>
            <a:chOff x="2987640" y="2060640"/>
            <a:chExt cx="5113440" cy="438120"/>
          </a:xfrm>
        </p:grpSpPr>
        <p:sp>
          <p:nvSpPr>
            <p:cNvPr id="668" name=""/>
            <p:cNvSpPr/>
            <p:nvPr/>
          </p:nvSpPr>
          <p:spPr>
            <a:xfrm>
              <a:off x="2987640" y="2060640"/>
              <a:ext cx="5113440" cy="438120"/>
            </a:xfrm>
            <a:prstGeom prst="roundRect">
              <a:avLst>
                <a:gd name="adj" fmla="val 50000"/>
              </a:avLst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7938720" y="2069280"/>
              <a:ext cx="148680" cy="427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558" y="631"/>
                    <a:pt x="3516" y="5080"/>
                    <a:pt x="3516" y="10800"/>
                  </a:cubicBezTo>
                  <a:cubicBezTo>
                    <a:pt x="3516" y="16520"/>
                    <a:pt x="12558" y="2096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00">
                <a:alpha val="8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000240" y="2099160"/>
              <a:ext cx="98640" cy="35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00">
                <a:alpha val="8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002040" y="2067840"/>
              <a:ext cx="5076360" cy="339480"/>
            </a:xfrm>
            <a:prstGeom prst="roundRect">
              <a:avLst>
                <a:gd name="adj" fmla="val 50000"/>
              </a:avLst>
            </a:prstGeom>
            <a:solidFill>
              <a:srgbClr val="ffff00">
                <a:alpha val="7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3132000" y="3789360"/>
            <a:ext cx="4535640" cy="398520"/>
            <a:chOff x="3132000" y="3789360"/>
            <a:chExt cx="4535640" cy="398520"/>
          </a:xfrm>
        </p:grpSpPr>
        <p:sp>
          <p:nvSpPr>
            <p:cNvPr id="673" name=""/>
            <p:cNvSpPr/>
            <p:nvPr/>
          </p:nvSpPr>
          <p:spPr>
            <a:xfrm>
              <a:off x="3132000" y="3789360"/>
              <a:ext cx="4535640" cy="398520"/>
            </a:xfrm>
            <a:prstGeom prst="roundRect">
              <a:avLst>
                <a:gd name="adj" fmla="val 50000"/>
              </a:avLst>
            </a:prstGeom>
            <a:solidFill>
              <a:srgbClr val="c91ae6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7524360" y="3797280"/>
              <a:ext cx="131760" cy="38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558" y="631"/>
                    <a:pt x="3516" y="5080"/>
                    <a:pt x="3516" y="10800"/>
                  </a:cubicBezTo>
                  <a:cubicBezTo>
                    <a:pt x="3516" y="16520"/>
                    <a:pt x="12558" y="2096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c91ae6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143160" y="3824640"/>
              <a:ext cx="87480" cy="31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c91ae6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144960" y="3795840"/>
              <a:ext cx="4502520" cy="308880"/>
            </a:xfrm>
            <a:prstGeom prst="roundRect">
              <a:avLst>
                <a:gd name="adj" fmla="val 50000"/>
              </a:avLst>
            </a:prstGeom>
            <a:solidFill>
              <a:srgbClr val="c91a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1619280" y="3357720"/>
            <a:ext cx="4681440" cy="398160"/>
            <a:chOff x="1619280" y="3357720"/>
            <a:chExt cx="4681440" cy="398160"/>
          </a:xfrm>
        </p:grpSpPr>
        <p:sp>
          <p:nvSpPr>
            <p:cNvPr id="678" name=""/>
            <p:cNvSpPr/>
            <p:nvPr/>
          </p:nvSpPr>
          <p:spPr>
            <a:xfrm>
              <a:off x="1619280" y="3357720"/>
              <a:ext cx="4681440" cy="398160"/>
            </a:xfrm>
            <a:prstGeom prst="roundRect">
              <a:avLst>
                <a:gd name="adj" fmla="val 50000"/>
              </a:avLst>
            </a:prstGeom>
            <a:solidFill>
              <a:srgbClr val="ffff00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6152760" y="3365640"/>
              <a:ext cx="136080" cy="38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558" y="631"/>
                    <a:pt x="3516" y="5080"/>
                    <a:pt x="3516" y="10800"/>
                  </a:cubicBezTo>
                  <a:cubicBezTo>
                    <a:pt x="3516" y="16520"/>
                    <a:pt x="12558" y="2096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00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630800" y="3393000"/>
              <a:ext cx="90360" cy="319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00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632600" y="3364200"/>
              <a:ext cx="4647240" cy="308520"/>
            </a:xfrm>
            <a:prstGeom prst="roundRect">
              <a:avLst>
                <a:gd name="adj" fmla="val 50000"/>
              </a:avLst>
            </a:prstGeom>
            <a:solidFill>
              <a:srgbClr val="ffff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Раздел 1400 Динамика расходов на межбюджетные трансфер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187280" y="4653000"/>
            <a:ext cx="2880000" cy="398520"/>
            <a:chOff x="1187280" y="4653000"/>
            <a:chExt cx="2880000" cy="398520"/>
          </a:xfrm>
        </p:grpSpPr>
        <p:sp>
          <p:nvSpPr>
            <p:cNvPr id="684" name=""/>
            <p:cNvSpPr/>
            <p:nvPr/>
          </p:nvSpPr>
          <p:spPr>
            <a:xfrm>
              <a:off x="1187280" y="4653000"/>
              <a:ext cx="2880000" cy="398520"/>
            </a:xfrm>
            <a:prstGeom prst="roundRect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3976200" y="4660920"/>
              <a:ext cx="83520" cy="38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558" y="631"/>
                    <a:pt x="3516" y="5080"/>
                    <a:pt x="3516" y="10800"/>
                  </a:cubicBezTo>
                  <a:cubicBezTo>
                    <a:pt x="3516" y="16520"/>
                    <a:pt x="12558" y="2096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194480" y="4688280"/>
              <a:ext cx="55440" cy="31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195560" y="4659480"/>
              <a:ext cx="285912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3419640" y="2565360"/>
            <a:ext cx="5329080" cy="438120"/>
            <a:chOff x="3419640" y="2565360"/>
            <a:chExt cx="5329080" cy="438120"/>
          </a:xfrm>
        </p:grpSpPr>
        <p:sp>
          <p:nvSpPr>
            <p:cNvPr id="689" name=""/>
            <p:cNvSpPr/>
            <p:nvPr/>
          </p:nvSpPr>
          <p:spPr>
            <a:xfrm>
              <a:off x="3419640" y="2565360"/>
              <a:ext cx="5329080" cy="438120"/>
            </a:xfrm>
            <a:prstGeom prst="roundRect">
              <a:avLst>
                <a:gd name="adj" fmla="val 50000"/>
              </a:avLst>
            </a:prstGeom>
            <a:solidFill>
              <a:srgbClr val="c91ae6"/>
            </a:solidFill>
            <a:ln w="1260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8580240" y="2574000"/>
              <a:ext cx="154800" cy="427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558" y="631"/>
                    <a:pt x="3516" y="5080"/>
                    <a:pt x="3516" y="10800"/>
                  </a:cubicBezTo>
                  <a:cubicBezTo>
                    <a:pt x="3516" y="16520"/>
                    <a:pt x="12558" y="2096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c91ae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432960" y="2603880"/>
              <a:ext cx="102960" cy="35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c91ae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434760" y="2572560"/>
              <a:ext cx="5290200" cy="339480"/>
            </a:xfrm>
            <a:prstGeom prst="roundRect">
              <a:avLst>
                <a:gd name="adj" fmla="val 50000"/>
              </a:avLst>
            </a:prstGeom>
            <a:solidFill>
              <a:srgbClr val="c91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684360" y="3789360"/>
            <a:ext cx="3456000" cy="1944720"/>
          </a:xfrm>
          <a:prstGeom prst="can">
            <a:avLst>
              <a:gd name="adj" fmla="val 31773"/>
            </a:avLst>
          </a:prstGeom>
          <a:gradFill rotWithShape="0">
            <a:gsLst>
              <a:gs pos="0">
                <a:srgbClr val="3b44f1"/>
              </a:gs>
              <a:gs pos="50000">
                <a:srgbClr val="00ccff"/>
              </a:gs>
              <a:gs pos="100000">
                <a:srgbClr val="3b44f1"/>
              </a:gs>
            </a:gsLst>
            <a:lin ang="10800000"/>
          </a:gradFill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84360" y="2349360"/>
            <a:ext cx="3456000" cy="2232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0a9a4f"/>
              </a:gs>
              <a:gs pos="50000">
                <a:srgbClr val="99cc00"/>
              </a:gs>
              <a:gs pos="100000">
                <a:srgbClr val="0a9a4f"/>
              </a:gs>
            </a:gsLst>
            <a:lin ang="10800000"/>
          </a:gradFill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84360" y="1484280"/>
            <a:ext cx="3456000" cy="194472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bd4beb"/>
              </a:gs>
              <a:gs pos="50000">
                <a:srgbClr val="ff00ff"/>
              </a:gs>
              <a:gs pos="100000">
                <a:srgbClr val="bd4be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500720" y="2133720"/>
            <a:ext cx="15332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82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18"/>
          <p:cNvSpPr/>
          <p:nvPr/>
        </p:nvSpPr>
        <p:spPr>
          <a:xfrm>
            <a:off x="826920" y="4581360"/>
            <a:ext cx="3097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очие межбюджетные трансферты бюджетам муниципального образования общего характера 14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8"/>
          <p:cNvSpPr/>
          <p:nvPr/>
        </p:nvSpPr>
        <p:spPr>
          <a:xfrm>
            <a:off x="1619280" y="3860640"/>
            <a:ext cx="165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ные дотации 14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8"/>
          <p:cNvSpPr/>
          <p:nvPr/>
        </p:nvSpPr>
        <p:spPr>
          <a:xfrm>
            <a:off x="755640" y="2205000"/>
            <a:ext cx="338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отации на выравнивание бюджетной обеспеченности муниципальных образований 14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4572000" y="6237360"/>
            <a:ext cx="2879640" cy="398520"/>
            <a:chOff x="4572000" y="6237360"/>
            <a:chExt cx="2879640" cy="398520"/>
          </a:xfrm>
        </p:grpSpPr>
        <p:sp>
          <p:nvSpPr>
            <p:cNvPr id="701" name=""/>
            <p:cNvSpPr/>
            <p:nvPr/>
          </p:nvSpPr>
          <p:spPr>
            <a:xfrm>
              <a:off x="4572000" y="6237360"/>
              <a:ext cx="2879640" cy="398520"/>
            </a:xfrm>
            <a:prstGeom prst="roundRect">
              <a:avLst>
                <a:gd name="adj" fmla="val 50000"/>
              </a:avLst>
            </a:prstGeom>
            <a:solidFill>
              <a:srgbClr val="c91ae6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>
              <a:off x="7360560" y="6245280"/>
              <a:ext cx="83520" cy="38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558" y="631"/>
                    <a:pt x="3516" y="5080"/>
                    <a:pt x="3516" y="10800"/>
                  </a:cubicBezTo>
                  <a:cubicBezTo>
                    <a:pt x="3516" y="16520"/>
                    <a:pt x="12558" y="2096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c91ae6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579200" y="6272640"/>
              <a:ext cx="55440" cy="31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c91ae6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580280" y="6243840"/>
              <a:ext cx="2858760" cy="308880"/>
            </a:xfrm>
            <a:prstGeom prst="roundRect">
              <a:avLst>
                <a:gd name="adj" fmla="val 50000"/>
              </a:avLst>
            </a:prstGeom>
            <a:solidFill>
              <a:srgbClr val="c91a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1187280" y="6237360"/>
            <a:ext cx="2880000" cy="398520"/>
            <a:chOff x="1187280" y="6237360"/>
            <a:chExt cx="2880000" cy="398520"/>
          </a:xfrm>
        </p:grpSpPr>
        <p:sp>
          <p:nvSpPr>
            <p:cNvPr id="706" name=""/>
            <p:cNvSpPr/>
            <p:nvPr/>
          </p:nvSpPr>
          <p:spPr>
            <a:xfrm>
              <a:off x="1187280" y="6237360"/>
              <a:ext cx="2880000" cy="398520"/>
            </a:xfrm>
            <a:prstGeom prst="roundRect">
              <a:avLst>
                <a:gd name="adj" fmla="val 50000"/>
              </a:avLst>
            </a:prstGeom>
            <a:solidFill>
              <a:srgbClr val="ffff00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3976200" y="6245280"/>
              <a:ext cx="83520" cy="38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558" y="631"/>
                    <a:pt x="3516" y="5080"/>
                    <a:pt x="3516" y="10800"/>
                  </a:cubicBezTo>
                  <a:cubicBezTo>
                    <a:pt x="3516" y="16520"/>
                    <a:pt x="12558" y="2096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00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194480" y="6272640"/>
              <a:ext cx="55440" cy="31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00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195560" y="6243840"/>
              <a:ext cx="2859120" cy="308880"/>
            </a:xfrm>
            <a:prstGeom prst="roundRect">
              <a:avLst>
                <a:gd name="adj" fmla="val 50000"/>
              </a:avLst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4500720" y="2637000"/>
            <a:ext cx="15332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92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572000" y="3429000"/>
            <a:ext cx="1533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7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572000" y="3860640"/>
            <a:ext cx="1533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7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140360" y="5084640"/>
            <a:ext cx="1152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835280" y="6308640"/>
            <a:ext cx="15332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2010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219640" y="6308640"/>
            <a:ext cx="1533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201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2"/>
          <a:stretch/>
        </p:blipFill>
        <p:spPr>
          <a:xfrm>
            <a:off x="7885080" y="115920"/>
            <a:ext cx="98748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Изменение кредиторской задолженности бюджетных учреждений (тыс. 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0" y="2622600"/>
            <a:ext cx="8435880" cy="4311720"/>
          </a:xfrm>
          <a:custGeom>
            <a:avLst/>
            <a:gdLst/>
            <a:ahLst/>
            <a:rect l="l" t="t" r="r" b="b"/>
            <a:pathLst>
              <a:path w="5218" h="2716">
                <a:moveTo>
                  <a:pt x="0" y="2387"/>
                </a:moveTo>
                <a:cubicBezTo>
                  <a:pt x="0" y="2527"/>
                  <a:pt x="0" y="2668"/>
                  <a:pt x="0" y="2668"/>
                </a:cubicBezTo>
                <a:cubicBezTo>
                  <a:pt x="2256" y="2716"/>
                  <a:pt x="4539" y="1996"/>
                  <a:pt x="5218" y="220"/>
                </a:cubicBezTo>
                <a:lnTo>
                  <a:pt x="4011" y="0"/>
                </a:lnTo>
                <a:cubicBezTo>
                  <a:pt x="3333" y="2003"/>
                  <a:pt x="638" y="2311"/>
                  <a:pt x="0" y="2387"/>
                </a:cubicBez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3780000" y="4797360"/>
            <a:ext cx="1294920" cy="1223280"/>
            <a:chOff x="3780000" y="4797360"/>
            <a:chExt cx="1294920" cy="1223280"/>
          </a:xfrm>
        </p:grpSpPr>
        <p:grpSp>
          <p:nvGrpSpPr>
            <p:cNvPr id="720" name=""/>
            <p:cNvGrpSpPr/>
            <p:nvPr/>
          </p:nvGrpSpPr>
          <p:grpSpPr>
            <a:xfrm>
              <a:off x="3780000" y="4797360"/>
              <a:ext cx="1294920" cy="1223280"/>
              <a:chOff x="3780000" y="4797360"/>
              <a:chExt cx="1294920" cy="1223280"/>
            </a:xfrm>
          </p:grpSpPr>
          <p:pic>
            <p:nvPicPr>
              <p:cNvPr id="72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902760" y="5756400"/>
                <a:ext cx="1066320" cy="26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780000" y="4797360"/>
                <a:ext cx="1294920" cy="112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3" name=""/>
              <p:cNvSpPr/>
              <p:nvPr/>
            </p:nvSpPr>
            <p:spPr>
              <a:xfrm>
                <a:off x="3780000" y="4797360"/>
                <a:ext cx="1285920" cy="1131480"/>
              </a:xfrm>
              <a:prstGeom prst="ellipse">
                <a:avLst/>
              </a:prstGeom>
              <a:gradFill rotWithShape="0">
                <a:gsLst>
                  <a:gs pos="0">
                    <a:srgbClr val="333399">
                      <a:alpha val="55294"/>
                    </a:srgbClr>
                  </a:gs>
                  <a:gs pos="50000">
                    <a:srgbClr val="171746">
                      <a:alpha val="90196"/>
                    </a:srgbClr>
                  </a:gs>
                  <a:gs pos="100000">
                    <a:srgbClr val="333399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24" name="" descr=""/>
            <p:cNvPicPr/>
            <p:nvPr/>
          </p:nvPicPr>
          <p:blipFill>
            <a:blip r:embed="rId4"/>
            <a:stretch/>
          </p:blipFill>
          <p:spPr>
            <a:xfrm>
              <a:off x="3907800" y="4808880"/>
              <a:ext cx="1023840" cy="39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5" name=""/>
          <p:cNvGrpSpPr/>
          <p:nvPr/>
        </p:nvGrpSpPr>
        <p:grpSpPr>
          <a:xfrm>
            <a:off x="5796000" y="2205000"/>
            <a:ext cx="2278080" cy="2361240"/>
            <a:chOff x="5796000" y="2205000"/>
            <a:chExt cx="2278080" cy="2361240"/>
          </a:xfrm>
        </p:grpSpPr>
        <p:grpSp>
          <p:nvGrpSpPr>
            <p:cNvPr id="726" name=""/>
            <p:cNvGrpSpPr/>
            <p:nvPr/>
          </p:nvGrpSpPr>
          <p:grpSpPr>
            <a:xfrm>
              <a:off x="5796000" y="2205000"/>
              <a:ext cx="2278080" cy="2361240"/>
              <a:chOff x="5796000" y="2205000"/>
              <a:chExt cx="2278080" cy="2361240"/>
            </a:xfrm>
          </p:grpSpPr>
          <p:pic>
            <p:nvPicPr>
              <p:cNvPr id="7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012000" y="4056120"/>
                <a:ext cx="1875960" cy="51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796000" y="2205000"/>
                <a:ext cx="2278080" cy="217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9" name=""/>
              <p:cNvSpPr/>
              <p:nvPr/>
            </p:nvSpPr>
            <p:spPr>
              <a:xfrm>
                <a:off x="5796000" y="2205000"/>
                <a:ext cx="2262600" cy="2183400"/>
              </a:xfrm>
              <a:prstGeom prst="ellipse">
                <a:avLst/>
              </a:prstGeom>
              <a:solidFill>
                <a:srgbClr val="99cc00">
                  <a:alpha val="7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30" name="" descr=""/>
            <p:cNvPicPr/>
            <p:nvPr/>
          </p:nvPicPr>
          <p:blipFill>
            <a:blip r:embed="rId7"/>
            <a:stretch/>
          </p:blipFill>
          <p:spPr>
            <a:xfrm>
              <a:off x="6021360" y="2227680"/>
              <a:ext cx="1801800" cy="77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1" name=""/>
          <p:cNvSpPr/>
          <p:nvPr/>
        </p:nvSpPr>
        <p:spPr>
          <a:xfrm flipV="1" rot="2284800">
            <a:off x="5555880" y="4428360"/>
            <a:ext cx="399960" cy="936360"/>
          </a:xfrm>
          <a:prstGeom prst="triangle">
            <a:avLst>
              <a:gd name="adj" fmla="val 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8"/>
          <p:cNvSpPr/>
          <p:nvPr/>
        </p:nvSpPr>
        <p:spPr>
          <a:xfrm>
            <a:off x="3780000" y="508464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8"/>
          <p:cNvSpPr/>
          <p:nvPr/>
        </p:nvSpPr>
        <p:spPr>
          <a:xfrm>
            <a:off x="6012000" y="2997360"/>
            <a:ext cx="184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68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987640" y="278136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 01.01.2011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971640" y="494172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 01.01.2012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8"/>
          <a:stretch/>
        </p:blipFill>
        <p:spPr>
          <a:xfrm>
            <a:off x="7885080" y="115920"/>
            <a:ext cx="98748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684360" y="184464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33cc"/>
                </a:solidFill>
                <a:latin typeface="Arial"/>
              </a:rPr>
              <a:t>Спасибо за внимание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2"/>
          <a:stretch/>
        </p:blipFill>
        <p:spPr>
          <a:xfrm>
            <a:off x="7956720" y="189000"/>
            <a:ext cx="94752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78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Исполнение налоговых доходов бюджета  МО «Фировский район» за  201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79280" y="1389240"/>
          <a:ext cx="8964720" cy="494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389240"/>
                    <a:ext cx="8964720" cy="49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7956720" y="333360"/>
            <a:ext cx="987120" cy="11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611280" y="1413000"/>
          <a:ext cx="6381720" cy="638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413000"/>
                    <a:ext cx="638172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3348000" y="1413000"/>
            <a:ext cx="2592360" cy="1068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05240" y="1601640"/>
            <a:ext cx="693720" cy="69372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48000" y="1413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  <a:ea typeface="Arial"/>
              </a:rPr>
              <a:t>11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  <a:ea typeface="Arial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48000" y="184464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Единый налог на вмененный дох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57880" y="4025880"/>
            <a:ext cx="693720" cy="69372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6106200">
            <a:off x="7872840" y="3416760"/>
            <a:ext cx="785160" cy="729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3522128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3522128"/>
              </a:path>
            </a:pathLst>
          </a:custGeom>
          <a:solidFill>
            <a:srgbClr val="ff00ff"/>
          </a:soli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73760" y="907920"/>
            <a:ext cx="707400" cy="71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267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26747"/>
              </a:path>
            </a:pathLst>
          </a:cu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21560" y="4292640"/>
            <a:ext cx="2171520" cy="1008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4000" y="4292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  <a:ea typeface="Arial"/>
              </a:rPr>
              <a:t>4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  <a:ea typeface="Arial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32720" y="494172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Госпошл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427640" y="2421000"/>
            <a:ext cx="0" cy="68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43640" y="3645000"/>
            <a:ext cx="115092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32480" y="2022480"/>
            <a:ext cx="693720" cy="69372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1916280"/>
            <a:ext cx="2273040" cy="106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28960" y="1873080"/>
            <a:ext cx="693720" cy="69228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 rot="3328800">
            <a:off x="1616760" y="1405440"/>
            <a:ext cx="429840" cy="43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6"/>
                </a:moveTo>
                <a:arcTo wR="10800" hR="10800" stAng="10705729" swAng="14696638"/>
                <a:lnTo>
                  <a:pt x="10800" y="10800"/>
                </a:lnTo>
                <a:close/>
              </a:path>
              <a:path fill="none" w="21600" h="21600">
                <a:moveTo>
                  <a:pt x="4" y="11096"/>
                </a:moveTo>
                <a:arcTo wR="10800" hR="10800" stAng="10705729" swAng="14696638"/>
              </a:path>
            </a:pathLst>
          </a:custGeom>
          <a:solidFill>
            <a:srgbClr val="99cc00"/>
          </a:solidFill>
          <a:ln w="0">
            <a:noFill/>
          </a:ln>
          <a:effectLst>
            <a:outerShdw dist="52300" dir="4563564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206064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  <a:ea typeface="Arial"/>
              </a:rPr>
              <a:t>85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  <a:ea typeface="Arial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2492280"/>
            <a:ext cx="21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лог на доходы с физических ли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1908000" y="3068640"/>
            <a:ext cx="168480" cy="690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8200" y="260280"/>
            <a:ext cx="693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Налоговые доходы МО «Фировский район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за  201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7956720" y="333360"/>
            <a:ext cx="98712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7354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Исполнение неналоговых доходов бюджета  МО «Фировский район» за 201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65120" y="1603440"/>
          <a:ext cx="8224920" cy="503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5120" y="1603440"/>
                    <a:ext cx="8224920" cy="50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7956720" y="333360"/>
            <a:ext cx="987120" cy="11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486400" y="3100320"/>
            <a:ext cx="3276720" cy="81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eaeaea"/>
              </a:gs>
              <a:gs pos="100000">
                <a:srgbClr val="ffffff"/>
              </a:gs>
            </a:gsLst>
            <a:lin ang="135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2222640"/>
            <a:ext cx="3276720" cy="812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eaeaea"/>
              </a:gs>
              <a:gs pos="100000">
                <a:srgbClr val="ffffff"/>
              </a:gs>
            </a:gsLst>
            <a:lin ang="135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5760600">
            <a:off x="402480" y="2549520"/>
            <a:ext cx="3886200" cy="3886200"/>
          </a:xfrm>
          <a:prstGeom prst="ellipse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5758800">
            <a:off x="755280" y="3284640"/>
            <a:ext cx="3138480" cy="3138480"/>
          </a:xfrm>
          <a:prstGeom prst="ellipse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5751600">
            <a:off x="1137240" y="4040640"/>
            <a:ext cx="2390760" cy="2392560"/>
          </a:xfrm>
          <a:prstGeom prst="ellipse">
            <a:avLst/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5743800">
            <a:off x="1476720" y="4796280"/>
            <a:ext cx="1643040" cy="1644840"/>
          </a:xfrm>
          <a:prstGeom prst="ellipse">
            <a:avLst/>
          </a:prstGeom>
          <a:solidFill>
            <a:srgbClr val="800080"/>
          </a:solidFill>
          <a:ln w="28440">
            <a:solidFill>
              <a:srgbClr val="000000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73120" y="1341360"/>
            <a:ext cx="3627360" cy="893520"/>
            <a:chOff x="573120" y="1341360"/>
            <a:chExt cx="3627360" cy="893520"/>
          </a:xfrm>
        </p:grpSpPr>
        <p:sp>
          <p:nvSpPr>
            <p:cNvPr id="104" name=""/>
            <p:cNvSpPr/>
            <p:nvPr/>
          </p:nvSpPr>
          <p:spPr>
            <a:xfrm>
              <a:off x="573120" y="1341360"/>
              <a:ext cx="3627360" cy="893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289a8"/>
                </a:gs>
                <a:gs pos="100000">
                  <a:srgbClr val="75afc3"/>
                </a:gs>
              </a:gsLst>
              <a:lin ang="10800000"/>
            </a:gradFill>
            <a:ln w="12600">
              <a:solidFill>
                <a:srgbClr val="3289a8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019400" y="1416960"/>
              <a:ext cx="162000" cy="74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4720" y="1419840"/>
              <a:ext cx="162000" cy="735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18"/>
          <p:cNvSpPr/>
          <p:nvPr/>
        </p:nvSpPr>
        <p:spPr>
          <a:xfrm>
            <a:off x="684360" y="1341360"/>
            <a:ext cx="33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еналоговые дох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0560" y="2362320"/>
            <a:ext cx="1396800" cy="523800"/>
          </a:xfrm>
          <a:custGeom>
            <a:avLst/>
            <a:gdLst>
              <a:gd name="textAreaLeft" fmla="*/ 0 w 1396800"/>
              <a:gd name="textAreaRight" fmla="*/ 1397160 w 139680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5f7f00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4495680" y="24559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8f8f8"/>
                </a:solidFill>
                <a:latin typeface="Arial"/>
                <a:ea typeface="Arial"/>
              </a:rPr>
              <a:t>45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0560" y="3240000"/>
            <a:ext cx="1396800" cy="522360"/>
          </a:xfrm>
          <a:custGeom>
            <a:avLst/>
            <a:gdLst>
              <a:gd name="textAreaLeft" fmla="*/ 0 w 1396800"/>
              <a:gd name="textAreaRight" fmla="*/ 1397160 w 13968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4495680" y="3333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Arial"/>
              </a:rPr>
              <a:t>4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86400" y="4865760"/>
            <a:ext cx="327672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eaeaea"/>
              </a:gs>
              <a:gs pos="100000">
                <a:srgbClr val="ffffff"/>
              </a:gs>
            </a:gsLst>
            <a:lin ang="135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3983040"/>
            <a:ext cx="327672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eaeaea"/>
              </a:gs>
              <a:gs pos="100000">
                <a:srgbClr val="ffffff"/>
              </a:gs>
            </a:gsLst>
            <a:lin ang="135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0560" y="4122720"/>
            <a:ext cx="1396800" cy="523800"/>
          </a:xfrm>
          <a:custGeom>
            <a:avLst/>
            <a:gdLst>
              <a:gd name="textAreaLeft" fmla="*/ 0 w 1396800"/>
              <a:gd name="textAreaRight" fmla="*/ 1397160 w 139680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4495680" y="4216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Arial"/>
              </a:rPr>
              <a:t>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0560" y="5005440"/>
            <a:ext cx="1396800" cy="522360"/>
          </a:xfrm>
          <a:custGeom>
            <a:avLst/>
            <a:gdLst>
              <a:gd name="textAreaLeft" fmla="*/ 0 w 1396800"/>
              <a:gd name="textAreaRight" fmla="*/ 1397160 w 13968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4495680" y="509904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Arial"/>
              </a:rPr>
              <a:t>4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43600" y="2205000"/>
            <a:ext cx="260676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ходы от оказания платных услуг и компенсации затрат государств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959440" y="4127400"/>
            <a:ext cx="260676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ходы от реализации имущества, находящегося в муниципальной собствен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1512720" y="5483160"/>
            <a:ext cx="16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4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1258920" y="437364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1258920" y="354024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4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1258920" y="2847960"/>
            <a:ext cx="21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45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3289320"/>
            <a:ext cx="260676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ходы от продажи материальных и нематериальных актив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59440" y="5041800"/>
            <a:ext cx="26067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очие неналоговые дох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Неналоговые доходы МО «Фировский район» </a:t>
            </a:r>
            <a:br>
              <a:rPr sz="2400"/>
            </a:b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за  201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956720" y="333360"/>
            <a:ext cx="987120" cy="11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63680" y="1052640"/>
          <a:ext cx="8216640" cy="54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3680" y="1052640"/>
                    <a:ext cx="821664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491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Динамика безвозмездных поступлений в бюджет  МО «Фировский район» </a:t>
            </a:r>
            <a:br>
              <a:rPr sz="2400"/>
            </a:b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в 2010-2011 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956720" y="333360"/>
            <a:ext cx="987120" cy="11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9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Исполнение безвозмездных поступлений МО "Фировский район" </a:t>
            </a:r>
            <a:br>
              <a:rPr sz="2400"/>
            </a:b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за 201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50920" y="1052640"/>
          <a:ext cx="8645400" cy="547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052640"/>
                    <a:ext cx="8645400" cy="54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956720" y="333360"/>
            <a:ext cx="987120" cy="11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1:34:13Z</dcterms:created>
  <dc:creator>Admin</dc:creator>
  <dc:description/>
  <dc:language>en-US</dc:language>
  <cp:lastModifiedBy>ИМЯ</cp:lastModifiedBy>
  <dcterms:modified xsi:type="dcterms:W3CDTF">2012-04-25T09:22:33Z</dcterms:modified>
  <cp:revision>50</cp:revision>
  <dc:subject/>
  <dc:title>Слайд 1</dc:title>
</cp:coreProperties>
</file>